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313F5-C64B-4D9D-A02C-17C858AC0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740A-4058-46C0-8E3E-9915DC91D4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C2E66-5FB1-4E5A-A9CE-2E282AA974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73D00-86AA-4B90-BDD4-2081F87819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700D1-A7BF-45AB-871E-A9398DCE1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F4D2-FDF2-403C-A535-C7760F229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330F8-8D3A-461C-B2C8-348DB8CA5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D3848-1442-4CEA-97E1-0EE69F49B2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C55D6-D124-4D65-B9BE-7DC47D450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2E66-F0A5-43F4-ACC6-6AE5692AC9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8EF00-39E5-4DA5-AA41-F53093C184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B1E39-14A4-4105-8CA5-C676A37092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4BA1-28B0-4491-AB1A-FA7B0A44E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664F6-8927-4DFE-8076-5644086E5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A99F7-CF8F-4DD9-9EB7-821DE78CF8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C81BB-0884-4B1C-ACD4-9CB19FE6C4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B1A18-36A8-4F55-8BB1-9F9D91E142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41C3D-2127-4501-9DDF-E417B40E07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B1794-B34A-4FB1-B825-00E7C24F0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988-908E-40BE-8368-713EB76D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4DF-DDD3-44E6-9DAB-7522580D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F1B-4AA5-470A-9912-E568A75F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100-E8DD-42BE-9654-6E32A17B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1AA-C920-41A3-BC6B-32DBFE7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462-E508-47AD-A810-F4B63A5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62D-34D2-49CA-B691-F4AD6AA7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C7E-DEE5-49DE-962E-94590C1C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40F-82EA-43C1-9A7D-8AAF6BC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30D-7105-4581-957A-173FFDE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27B-B8B8-4E3C-AA73-C8966CF4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609-D571-4AD1-A220-5F13A91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001F1-0B02-4E47-8D1F-0DCB59C5EA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change.smarttech.com/details.html?id=1903b709-c359-4676-a6e2-44aee90b032c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brainpop.com/health/geneticsgrowthanddevelopment/cellspecialization/preview.we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073160"/>
            <a:ext cx="90727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Teaching the Concept of the Circulatory System: Animals vs.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y: Janet Vaz and Debr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479592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00400" y="4780080"/>
            <a:ext cx="25146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omparison Game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Create a Jeopardy game full of comparison questions between the circulatory system of plants and animals: </a:t>
            </a:r>
            <a:br>
              <a:rPr sz="26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exchange.smarttech.com/details.html?id=1903b709-c359-4676-a6e2-44aee90b03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Research-based Assign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06440" y="25606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choose from a list of potential diseases/conditions affecting the circulatory system of either plant or anim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can be communicated in a variety of ways such as PowerPoint presentation, Wiki, research pap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Groups must create a handout for the class that includes disease description, symptoms, treatments, preventative measures, consequences to other systems connected to the circulatory/transpor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306440" y="1646280"/>
            <a:ext cx="7696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NTENT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any terms – students must learn parts of heart and plant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Transport direction – which way does blood flow within the heart?  Which vessels carry oxygen and in what direction?  Differences between Xylem and Phloem contents and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1382760" y="484668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306440" y="16462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CESS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is time consuming and requires a strong understanding of how thing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must have a good cross section and must focus the microscope accurately in order to see the necessary compon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of micro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ab is individually writ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pplication-ba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716880" y="4313160"/>
            <a:ext cx="30477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olutions to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06440" y="1646280"/>
            <a:ext cx="769644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Encourage students to develop acronyms/phrases to help remember details ie. Blood through heart cha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clude a vocabulary/terms list and examples of mind maps to refer to as students work through the graphic organi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vide images of plant cross sections as students work through microscope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Refer students to additional resources that provide information on similarities and differences between plant and animal circulatory systems for the communication section of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afety Consider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583160" y="1646280"/>
            <a:ext cx="4419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uter components for the Gizmo activity and research sections of various assignments must be conducted in a responsible manner, including using the internet for educational purpos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54160" y="1494000"/>
            <a:ext cx="325116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306440" y="4541760"/>
            <a:ext cx="830592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croscope and related lab equipment must be used in accordance with the code of conduct agreed upon at the start of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lassroom must be safely organized so nothing is in the way while groups are working at microscope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actical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382760" y="156996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Use of Nanotechnology in Vascular Cel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ooking into new ways of tracking bacterial/viral movement in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nt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edical Advancements in Circulatory System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sessing how heart condition treatment has changed over the last few decades, and how it could change in the years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382760" y="1494000"/>
            <a:ext cx="80773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UM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Both practical applications are related to the research-based assignment which has rubrics provided to explain how it will be assessed in the following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owerPoint, poster, or other visual method displayi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on chosen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-designed handout and oral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  Unit test will check student understanding of the concep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rts of plant/animal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thways of nutrient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imilarities and differences among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382760" y="149400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teractive Gizmo activity as process learning of animal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irculatory syste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as a visual learning tool to connect vascular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onents in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3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going class discussions based on demonstrations, labs, and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lin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442764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We all know that animals, humans included, have a circulatory system made up of blood, blood vessels and a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ut what if we told you that plants also have a similar circulatory system? How is thi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1488960"/>
            <a:ext cx="84582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1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ell Specialization - An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Cells differentiate to become tissue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2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Heart, Blood, Blood vess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3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Vascular tissue system, Xylem, Phlo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4: Plant Circulatory System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Lesson 5: Circulatory System of Animals vs.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6-8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ulminating Task – Research Ass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ss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80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Grade 10 - Biology: Tissues, Organs and Systems of Living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3 Explain the links between specialized cells, tissues,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s, and systems in plants and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4 Explain the primary functions of a variety of systems i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5 Explain the interaction of different systems within a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ism and why such interactions are necessary f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the organism's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B2.7 Use a research process to investigate a disease 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abnormality related to tissues, organs, or systems of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humans 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urriculu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888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Video on Cell Specialization found 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brainpop.com/health/geneticsgrowthanddevelopment/cellspecialization/preview.we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2848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ies: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91663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explorelearning.com/index.cfm?method=cResource.dspDetail&amp;ResourceID=662&amp;ClassI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8520" y="25236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irculation in Animal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54160" y="1951200"/>
            <a:ext cx="4952880" cy="68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izmos interactive activity used to develop an understanding of the parts, and pathways of the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tudents must complete this visual lab by using the student worksheet provided to work through each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tensions are provided for students who are able to move beyond the expectations, and for those who require more support, they will be provided with a vocabulary she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6473880" y="2263680"/>
            <a:ext cx="36068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a white carnation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is happening when the flower is in the water?". Discuss ideas as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will happen if I add blue dye to the water?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llow students to come up with a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the flower in the water and discus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 pairs, students complete a mind map (or other graphic organizer) of the plant transport system using textbook &amp; additional online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Vocabulary list is provided to ensure students include all necessar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649840" y="1874880"/>
            <a:ext cx="41529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-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 the lab component, students observe a cross section of a vascular plant cell under the microscope, create a labelled diagram, and communicate their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focuses on comparing similarities and differences between plant and animal circulatory systems including form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345280" y="2103480"/>
            <a:ext cx="44956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4:07:41Z</dcterms:created>
  <dc:creator>cdsolorzano</dc:creator>
  <dc:description/>
  <dc:language>en-US</dc:language>
  <cp:lastModifiedBy>cdsolorzano</cp:lastModifiedBy>
  <dcterms:modified xsi:type="dcterms:W3CDTF">2012-07-27T04:32:42Z</dcterms:modified>
  <cp:revision>11</cp:revision>
  <dc:subject/>
  <dc:title>Teaching the Concept of the Circulatory System: Animals vs. Plants</dc:title>
</cp:coreProperties>
</file>