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FE61E4-E047-4E6C-BFCB-ECEF94E934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CB8686-5FAC-4943-886C-E39A2DFA63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BB6E2B-5123-4845-A06F-ABB9E25870F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F02622-D8D3-4426-9EDF-97BA1EB23E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1C17B2-150B-4E5C-BC43-FDB679AE93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059CBF-3355-41E2-854F-D03D4A2207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02195B-EEF4-416A-A19A-E04645A6213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5CCFBE-7962-4E80-B5E8-6AF20DA06B9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8E1F7-4EC1-4BB7-AB0D-37CBB48DF3C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4EB83-CDEC-48AE-A5A5-791E7762B1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45C17-9EDE-42E0-AA72-BF3F32819F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67E1C-7B76-4FF6-8D89-80C765CAA1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6C6E1-72CD-4C67-9E00-7E95087F764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B52A8C-5D1A-48E0-A0BB-FEC35282DB6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FA8033-3F9C-4E7A-BC48-46667C7D037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808F55-6117-4CA4-881F-3CF5BC362F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C165B-7F6F-47DD-963F-3BF2C3607D1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D02ACA-0E23-4DEF-9702-CFEDEDA0A4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8"/>
          <p:cNvSpPr/>
          <p:nvPr/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B7AC4-E873-4B38-82E6-8D81BE5902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C6F-5AB9-43EB-A802-4E1566BE1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93A8-9F0A-4A16-BF56-35A27B6E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C278-F14F-45A8-9829-FD9C0DC0D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96E9-2DEF-4E25-8CA1-7C2080307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81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0FF-15FB-4654-890C-FEBED13B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C44-E4A4-4D47-B244-EAE09C37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76A-E973-4F31-8C54-6E6DDC449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0F20-B015-4781-8DB2-CA3628860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81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6E3B-0BC8-4FD5-AB2E-9B92D708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2041-591E-4A7D-ACA2-E5765E62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752F-0D32-4B5A-B585-B1EAB9D45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948A-570E-457A-9EF9-10B8435B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942FF24-BD39-4711-B703-20D917963A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xchange.smarttech.com/details.html?id=1903b709-c359-4676-a6e2-44aee90b032c" TargetMode="External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brainpop.com/health/geneticsgrowthanddevelopment/cellspecialization/preview.we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1073160"/>
            <a:ext cx="9072720" cy="20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rebuchet MS"/>
              </a:rPr>
              <a:t>Teaching the Concept of the Circulatory System: Animals vs.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286000" y="2971800"/>
            <a:ext cx="6858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By: Janet Vaz and Debra Fab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2"/>
          <a:stretch/>
        </p:blipFill>
        <p:spPr>
          <a:xfrm>
            <a:off x="6172200" y="4795920"/>
            <a:ext cx="2286000" cy="2062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/>
          <a:stretch/>
        </p:blipFill>
        <p:spPr>
          <a:xfrm>
            <a:off x="3200400" y="4780080"/>
            <a:ext cx="2514600" cy="207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y: Comparison Game</a:t>
            </a:r>
            <a:br>
              <a:rPr sz="4400"/>
            </a:br>
            <a:br>
              <a:rPr sz="4400"/>
            </a:b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Create a Jeopardy game full of comparison questions between the circulatory system of plants and animals: </a:t>
            </a:r>
            <a:br>
              <a:rPr sz="2600"/>
            </a:br>
            <a:r>
              <a:rPr b="0" lang="en-GB" sz="1800" spc="-1" strike="noStrike" u="sng">
                <a:solidFill>
                  <a:srgbClr val="ccccff"/>
                </a:solidFill>
                <a:uFillTx/>
                <a:latin typeface="Trebuchet MS"/>
                <a:hlinkClick r:id="rId2"/>
              </a:rPr>
              <a:t>http://exchange.smarttech.com/details.html?id=1903b709-c359-4676-a6e2-44aee90b032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3"/>
          <a:stretch/>
        </p:blipFill>
        <p:spPr>
          <a:xfrm>
            <a:off x="2743200" y="3657600"/>
            <a:ext cx="52578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y: Research-based Assignm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4"/>
          <p:cNvSpPr/>
          <p:nvPr/>
        </p:nvSpPr>
        <p:spPr>
          <a:xfrm>
            <a:off x="1306440" y="2560680"/>
            <a:ext cx="76964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tudents choose from a list of potential diseases/conditions affecting the circulatory system of either plant or animal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formation can be communicated in a variety of ways such as PowerPoint presentation, Wiki, research paper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Groups must create a handout for the class that includes disease description, symptoms, treatments, preventative measures, consequences to other systems connected to the circulatory/transport syst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otential Student Difficulti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306440" y="1646280"/>
            <a:ext cx="769644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NTENT DIFFICUL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any terms – students must learn parts of heart and plant c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Transport direction – which way does blood flow within the heart?  Which vessels carry oxygen and in what direction?  Differences between Xylem and Phloem contents and dir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5" descr=""/>
          <p:cNvPicPr/>
          <p:nvPr/>
        </p:nvPicPr>
        <p:blipFill>
          <a:blip r:embed="rId2"/>
          <a:stretch/>
        </p:blipFill>
        <p:spPr>
          <a:xfrm>
            <a:off x="1382760" y="4846680"/>
            <a:ext cx="8229600" cy="21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otential Student Difficulti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4"/>
          <p:cNvSpPr/>
          <p:nvPr/>
        </p:nvSpPr>
        <p:spPr>
          <a:xfrm>
            <a:off x="1306440" y="1646280"/>
            <a:ext cx="76964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ROCESS DIFFICUL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ind map is time consuming and requires a strong understanding of how things fit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tudents must have a good cross section and must focus the microscope accurately in order to see the necessary compon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munication section of microsco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lab is individually written an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pplication-bas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6" descr=""/>
          <p:cNvPicPr/>
          <p:nvPr/>
        </p:nvPicPr>
        <p:blipFill>
          <a:blip r:embed="rId2"/>
          <a:stretch/>
        </p:blipFill>
        <p:spPr>
          <a:xfrm>
            <a:off x="6716880" y="4313160"/>
            <a:ext cx="3047760" cy="287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otential Solutions to Student Difficulti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1306440" y="1646280"/>
            <a:ext cx="7696440" cy="61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Encourage students to develop acronyms/phrases to help remember details ie. Blood through heart chamb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clude a vocabulary/terms list and examples of mind maps to refer to as students work through the graphic organiz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rovide images of plant cross sections as students work through microscope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Refer students to additional resources that provide information on similarities and differences between plant and animal circulatory systems for the communication section of la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Safety Consideration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4583160" y="1646280"/>
            <a:ext cx="4419720" cy="35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puter components for the Gizmo activity and research sections of various assignments must be conducted in a responsible manner, including using the internet for educational purpose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1154160" y="1494000"/>
            <a:ext cx="3251160" cy="25398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6"/>
          <p:cNvSpPr/>
          <p:nvPr/>
        </p:nvSpPr>
        <p:spPr>
          <a:xfrm>
            <a:off x="1306440" y="4541760"/>
            <a:ext cx="8305920" cy="19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icroscope and related lab equipment must be used in accordance with the code of conduct agreed upon at the start of the yea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1000"/>
              </a:lnSpc>
              <a:spcAft>
                <a:spcPts val="601"/>
              </a:spcAft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lassroom must be safely organized so nothing is in the way while groups are working at microscope s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Practical Application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4"/>
          <p:cNvSpPr/>
          <p:nvPr/>
        </p:nvSpPr>
        <p:spPr>
          <a:xfrm>
            <a:off x="1382760" y="1569960"/>
            <a:ext cx="807732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Use of Nanotechnology in Vascular Cell Resear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Trebuchet M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Looking into new ways of tracking bacterial/viral movement in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lant ce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Trebuchet M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Trebuchet MS"/>
              <a:buChar char="-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edical Advancements in Circulatory System Techn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ssessing how heart condition treatment has changed over the last few decades, and how it could change in the years to com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Differentiated Assessm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1382760" y="1494000"/>
            <a:ext cx="8077320" cy="67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UMMATIVE ASSE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1)  Both practical applications are related to the research-based assignment which has rubrics provided to explain how it will be assessed in the following way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owerPoint, poster, or other visual method displaying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formation on chosen cond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tudent-designed handout and oral pres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2)  Unit test will check student understanding of the concepts of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arts of plant/animal circulatory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athways of nutrient transf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similarities and differences among plants and anim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915400" cy="32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Differentiated Assessment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1382760" y="1494000"/>
            <a:ext cx="8077320" cy="35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FORMATIVE ASSESS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1) 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teractive Gizmo activity as process learning of animal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irculatory system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2)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Mind map as a visual learning tool to connect vascular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ponents in pla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3)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Ongoing class discussions based on demonstrations, labs, and 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online activiti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Introduc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1798560"/>
            <a:ext cx="4427640" cy="506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85560" indent="-291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We all know that animals, humans included, have a circulatory system made up of blood, blood vessels and a hear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5560" indent="-2916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rebuchet MS"/>
              </a:rPr>
              <a:t>But what if we told you that plants also have a similar circulatory system? How is this possi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43434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42640" y="1488960"/>
            <a:ext cx="8458200" cy="537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1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ell Specialization - An Overvie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3020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Cells differentiate to become tissues and org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2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irculatory System of Anim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3020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Heart, Blood, Blood vess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3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irculatory System of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43020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Vascular tissue system, Xylem, Phlo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4: Plant Circulatory System La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Lesson 5: Circulatory System of Animals vs.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Lesson 6-8: </a:t>
            </a: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Culminating Task – Research Assign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Lesson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08000" y="1828800"/>
            <a:ext cx="90727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Trebuchet MS"/>
              </a:rPr>
              <a:t>Grade 10 - Biology: Tissues, Organs and Systems of Living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B3.3 Explain the links between specialized cells, tissues,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organs, and systems in plants and anim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B3.4 Explain the primary functions of a variety of systems in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anim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B3.5 Explain the interaction of different systems within an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organism and why such interactions are necessary for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the organism's surviv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B2.7 Use a research process to investigate a disease or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  abnormality related to tissues, organs, or systems of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  <a:ea typeface="Arial Unicode MS"/>
              </a:rPr>
              <a:t>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        </a:t>
            </a:r>
            <a:r>
              <a:rPr b="0" lang="en-GB" sz="2600" spc="-1" strike="noStrike">
                <a:solidFill>
                  <a:srgbClr val="ffffff"/>
                </a:solidFill>
                <a:latin typeface="Trebuchet MS"/>
              </a:rPr>
              <a:t>humans or pl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9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Curriculum Expect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2057400" y="2971800"/>
            <a:ext cx="6400800" cy="43434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14400" y="456840"/>
            <a:ext cx="88898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Video on Cell Specialization found at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 u="sng">
                <a:solidFill>
                  <a:srgbClr val="ccccff"/>
                </a:solidFill>
                <a:uFillTx/>
                <a:latin typeface="Trebuchet MS"/>
                <a:hlinkClick r:id="rId3"/>
              </a:rPr>
              <a:t>http://www.brainpop.com/health/geneticsgrowthanddevelopment/cellspecialization/preview.we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528480" y="228240"/>
            <a:ext cx="9072720" cy="11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ies: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400" y="1600200"/>
            <a:ext cx="916632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ttp://www.explorelearning.com/index.cfm?method=cResource.dspDetail&amp;ResourceID=662&amp;ClassID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758520" y="252360"/>
            <a:ext cx="907236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rebuchet MS"/>
              </a:rPr>
              <a:t>Teaching Strategy: Circulation in Animals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1154160" y="1951200"/>
            <a:ext cx="4952880" cy="68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Gizmos interactive activity used to develop an understanding of the parts, and pathways of the circulatory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Students must complete this visual lab by using the student worksheet provided to work through each s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1000"/>
              </a:lnSpc>
              <a:buClr>
                <a:srgbClr val="000000"/>
              </a:buClr>
              <a:buSzPct val="4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Trebuchet MS"/>
              </a:rPr>
              <a:t>Extensions are provided for students who are able to move beyond the expectations, and for those who require more support, they will be provided with a vocabulary shee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3"/>
          <a:stretch/>
        </p:blipFill>
        <p:spPr>
          <a:xfrm>
            <a:off x="6473880" y="2263680"/>
            <a:ext cx="3606840" cy="529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3"/>
          <a:stretch/>
        </p:blipFill>
        <p:spPr>
          <a:xfrm>
            <a:off x="5486400" y="1828800"/>
            <a:ext cx="4343400" cy="38862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8520" y="22824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ing Strategy: Circulatory System of Plants Demonst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730520"/>
            <a:ext cx="44276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lace a white carnation in wa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sk: "What do you think is happening when the flower is in the water?". Discuss ideas as a cla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sk: "What do you think will happen if I add blue dye to the water?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Allow students to come up with a hypothes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Place the flower in the water and discuss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8520" y="22824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ing Strategy: Circulatory System of Plants Activ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730520"/>
            <a:ext cx="44276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In pairs, students complete a mind map (or other graphic organizer) of the plant transport system using textbook &amp; additional online resour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Vocabulary list is provided to ensure students include all necessary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5649840" y="1874880"/>
            <a:ext cx="4152960" cy="50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151600" y="1767960"/>
            <a:ext cx="4427280" cy="49928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43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8520" y="228240"/>
            <a:ext cx="907236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aching Strategy: Circulatory System of Plants - La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730520"/>
            <a:ext cx="442764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For the lab component, students observe a cross section of a vascular plant cell under the microscope, create a labelled diagram, and communicate their find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Trebuchet MS"/>
              </a:rPr>
              <a:t>Communication section focuses on comparing similarities and differences between plant and animal circulatory systems including form and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3"/>
          <a:stretch/>
        </p:blipFill>
        <p:spPr>
          <a:xfrm>
            <a:off x="5345280" y="2103480"/>
            <a:ext cx="4495680" cy="4641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6T14:07:41Z</dcterms:created>
  <dc:creator>cdsolorzano</dc:creator>
  <dc:description/>
  <dc:language>en-US</dc:language>
  <cp:lastModifiedBy>cdsolorzano</cp:lastModifiedBy>
  <dcterms:modified xsi:type="dcterms:W3CDTF">2012-07-27T04:32:42Z</dcterms:modified>
  <cp:revision>11</cp:revision>
  <dc:subject/>
  <dc:title>Teaching the Concept of the Circulatory System: Animals vs. Plants</dc:title>
</cp:coreProperties>
</file>