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22BD4-9777-44B0-9FF7-C209739795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B06EA-FDD4-4140-983C-FD16C09E6C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8DA6C-AE0A-4EDE-BAEA-8111E31F88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EBE95-5AD6-4F76-80D5-0FCF3B2BE9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72D3C-4945-414F-9081-77E4832D3E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54DA0-4008-45F6-B03F-19EB3CA299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445A6-1676-4166-BBD4-2F2D175C50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1223A-630F-4D9C-B2CD-562BF96629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1E02D-1AB1-4E6B-B14B-01EEF1809B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41CB3-9B45-4289-BEFF-94EA74309E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C9E48-6742-434B-9CAB-D8578175B4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CC5CA-251C-4DD7-989B-510B5D0B71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89A3A-6BB1-4965-81C6-70EF7E4800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50996-3987-4380-BE0D-B6EE2834AA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A86C5-52B6-4985-BBA2-DDBF826890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92C31-2557-425D-9F35-2DE67C7E78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6540C-B265-4009-9086-C3A2E1B925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AE85A-BAE7-4A6E-9528-38AC1EB079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75EC4-6AB0-4993-80E7-771C4550AE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B56-8725-4D46-B055-8A638CA7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3DA-3C6C-482B-AA4C-1A036D25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33A-46D3-4A27-9C86-69D84CF5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CF7-9488-4B7D-B7C5-66B2A789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A7B-D946-424B-8BAF-6BA1C57D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A05-EE55-4981-A877-30A241AB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405-B6A0-41F3-90AB-B7DDDD43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616-8560-4452-B3D7-EEDC86AF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854-E276-463F-8E2C-1053D0FE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115-FA32-463F-B3BC-98E58EB4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4AFA-5B81-44AA-8854-24E2BC24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31E-9754-42C9-831C-5FA18284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A537B-FE93-4F1E-AB0F-1D6E6FDCC5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xchange.smarttech.com/details.html?id=1903b709-c359-4676-a6e2-44aee90b032c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brainpop.com/health/geneticsgrowthanddevelopment/cellspecialization/preview.we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073160"/>
            <a:ext cx="907272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rebuchet MS"/>
              </a:rPr>
              <a:t>Teaching the Concept of the Circulatory System: Animals vs.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0" y="297180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By: Janet Vaz and Debra Fa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172200" y="4795920"/>
            <a:ext cx="2286000" cy="206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3200400" y="4780080"/>
            <a:ext cx="251460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Comparison Game</a:t>
            </a:r>
            <a:br>
              <a:rPr sz="4400"/>
            </a:br>
            <a:br>
              <a:rPr sz="4400"/>
            </a:b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Create a Jeopardy game full of comparison questions between the circulatory system of plants and animals: </a:t>
            </a:r>
            <a:br>
              <a:rPr sz="2600"/>
            </a:br>
            <a:r>
              <a:rPr b="0" lang="en-GB" sz="18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exchange.smarttech.com/details.html?id=1903b709-c359-4676-a6e2-44aee90b03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2743200" y="365760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Research-based Assign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306440" y="2560680"/>
            <a:ext cx="7696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s choose from a list of potential diseases/conditions affecting the circulatory system of either plant or animal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formation can be communicated in a variety of ways such as PowerPoint presentation, Wiki, research pape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Groups must create a handout for the class that includes disease description, symptoms, treatments, preventative measures, consequences to other systems connected to the circulatory/transport 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306440" y="1646280"/>
            <a:ext cx="76964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NTENT DIFFICUL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any terms – students must learn parts of heart and plant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Transport direction – which way does blood flow within the heart?  Which vessels carry oxygen and in what direction?  Differences between Xylem and Phloem contents and dir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1382760" y="4846680"/>
            <a:ext cx="822960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306440" y="1646280"/>
            <a:ext cx="7696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ROCESS DIFFICUL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nd map is time consuming and requires a strong understanding of how things fit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s must have a good cross section and must focus the microscope accurately in order to see the necessary compon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munication section of micro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lab is individually written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pplication-bas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6716880" y="4313160"/>
            <a:ext cx="3047760" cy="28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olutions to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306440" y="1646280"/>
            <a:ext cx="7696440" cy="61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Encourage students to develop acronyms/phrases to help remember details ie. Blood through heart cha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clude a vocabulary/terms list and examples of mind maps to refer to as students work through the graphic organi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rovide images of plant cross sections as students work through microscope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Refer students to additional resources that provide information on similarities and differences between plant and animal circulatory systems for the communication section of 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Safety Considera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583160" y="1646280"/>
            <a:ext cx="441972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puter components for the Gizmo activity and research sections of various assignments must be conducted in a responsible manner, including using the internet for educational purpos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1154160" y="1494000"/>
            <a:ext cx="3251160" cy="25398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1306440" y="4541760"/>
            <a:ext cx="830592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croscope and related lab equipment must be used in accordance with the code of conduct agreed upon at the start of the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lassroom must be safely organized so nothing is in the way while groups are working at microscope s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ractical Applica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382760" y="1569960"/>
            <a:ext cx="80773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Use of Nanotechnology in Vascular Cell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Looking into new ways of tracking bacterial/viral movement in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nt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edical Advancements in Circulatory System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sessing how heart condition treatment has changed over the last few decades, and how it could change in the years to c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Differentiated Assess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382760" y="1494000"/>
            <a:ext cx="807732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UMMATIVE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1)  Both practical applications are related to the research-based assignment which has rubrics provided to explain how it will be assessed in the following way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owerPoint, poster, or other visual method displaying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formation on chosen con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-designed handout and oral 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2)  Unit test will check student understanding of the concepts o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arts of plant/animal circulatory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athways of nutrient 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imilarities and differences among plants and anim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Differentiated Assess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382760" y="1494000"/>
            <a:ext cx="80773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FORMATIVE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1)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teractive Gizmo activity as process learning of animal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irculatory system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2)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nd map as a visual learning tool to connect vascular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ponents in pl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3)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Ongoing class discussions based on demonstrations, labs, and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online activ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98560"/>
            <a:ext cx="442764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85560" indent="-291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We all know that animals, humans included, have a circulatory system made up of blood, blood vessels and a hea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560" indent="-291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But what if we told you that plants also have a similar circulatory system? How is this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2640" y="1488960"/>
            <a:ext cx="8458200" cy="53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1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ell Specialization - An 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Cells differentiate to become tissues and org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2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irculatory System of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Heart, Blood, Blood vess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3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irculatory System of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Vascular tissue system, Xylem, Phlo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4: Plant Circulatory System L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Lesson 5: Circulatory System of Animals vs.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6-8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ulminating Task – Research Assig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Lesson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08000" y="182880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Grade 10 - Biology: Tissues, Organs and Systems of Living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3 Explain the links between specialized cells, tissues,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organs, and systems in plants and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4 Explain the primary functions of a variety of systems in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5 Explain the interaction of different systems within an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organism and why such interactions are necessary for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the organism's survi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B2.7 Use a research process to investigate a disease or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 abnormality related to tissues, organs, or systems of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    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humans or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urriculum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888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Video on Cell Specialization found a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brainpop.com/health/geneticsgrowthanddevelopment/cellspecialization/preview.we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528480" y="228240"/>
            <a:ext cx="90727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ies: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91663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explorelearning.com/index.cfm?method=cResource.dspDetail&amp;ResourceID=662&amp;ClassID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758520" y="252360"/>
            <a:ext cx="90723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Circulation in Animal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154160" y="1951200"/>
            <a:ext cx="4952880" cy="68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Gizmos interactive activity used to develop an understanding of the parts, and pathways of the circulatory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Students must complete this visual lab by using the student worksheet provided to work through each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xtensions are provided for students who are able to move beyond the expectations, and for those who require more support, they will be provided with a vocabulary she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6473880" y="2263680"/>
            <a:ext cx="360684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5486400" y="1828800"/>
            <a:ext cx="4343400" cy="3886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ce a white carnation in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k: "What do you think is happening when the flower is in the water?". Discuss ideas as a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k: "What do you think will happen if I add blue dye to the water?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llow students to come up with a hypo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ce the flower in the water and discuss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A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 pairs, students complete a mind map (or other graphic organizer) of the plant transport system using textbook &amp; additional online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Vocabulary list is provided to ensure students include all necessary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649840" y="1874880"/>
            <a:ext cx="4152960" cy="50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-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For the lab component, students observe a cross section of a vascular plant cell under the microscope, create a labelled diagram, and communicate their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munication section focuses on comparing similarities and differences between plant and animal circulatory systems including form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5345280" y="2103480"/>
            <a:ext cx="4495680" cy="464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6T14:07:41Z</dcterms:created>
  <dc:creator>cdsolorzano</dc:creator>
  <dc:description/>
  <dc:language>en-US</dc:language>
  <cp:lastModifiedBy>cdsolorzano</cp:lastModifiedBy>
  <dcterms:modified xsi:type="dcterms:W3CDTF">2012-07-27T04:32:42Z</dcterms:modified>
  <cp:revision>11</cp:revision>
  <dc:subject/>
  <dc:title>Teaching the Concept of the Circulatory System: Animals vs. Plants</dc:title>
</cp:coreProperties>
</file>