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C6C0-2FF8-4154-9B6D-2A354049EA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E285D-6F30-4CED-A37A-BA21B1491D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85A70-B27D-4748-AE4D-8A2E91FA8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EEDE3-8696-4B57-A85B-CC2D3840F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EC92C-F2CA-4124-AE43-1FC4182AE1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3CCE5-A83B-4522-B361-CAD1A99A0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1040A-A79D-4D23-B3D4-C025BCF56C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B1A92-AAA1-4AA5-921E-24CE82C9A2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00FD3-4C60-410F-A8DC-6FA40D97E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BFB5A-7708-4C27-A296-80E3F5112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DFE92-D26C-44BF-BCB3-1F1555EBD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8887A-C00E-44B2-BB9C-454AC3C95D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146B0-4A55-4412-879A-6E53A0F86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D7948-C96F-4363-8245-7DA796C8D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30A9F-FB04-470F-9BE9-275B45B7B0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267BA-C91D-43E9-8AD1-191D81DBE2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CB0C1-83CA-458E-B5A8-B2D14AECDB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3D2C-8D93-49BB-AB1D-6D7E9F75E2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9B6BF-E719-4BEC-9B6B-77C41A119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437-78C1-4F69-86A5-2C8C5C73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C40-E4C5-4B86-BB73-6F78EEE6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64A-E485-4AFE-88EA-70C43455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D1D-9DB8-4019-AB29-AB41133C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AD1-939B-4A05-97C6-D633A95F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56B-6BC9-4728-81A4-2FFB78B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E14-7789-4E5F-9927-1C84BCAA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77B-C682-4EE2-8834-5C33852C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3F6-C0D3-422F-B74C-0F5A32C3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F3C-132B-4091-A78A-80AAEAD7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0FE-7258-45E0-97B9-2A68D627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210-AB07-430F-89F2-B19933D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13514-E882-4D87-A9FA-0D2E2D454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xchange.smarttech.com/details.html?id=1903b709-c359-4676-a6e2-44aee90b032c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brainpop.com/health/geneticsgrowthanddevelopment/cellspecialization/preview.we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073160"/>
            <a:ext cx="90727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</a:rPr>
              <a:t>Teaching the Concept of the Circulatory System: Animals vs.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y: Janet Vaz and Debr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479592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200400" y="4780080"/>
            <a:ext cx="25146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omparison Game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Create a Jeopardy game full of comparison questions between the circulatory system of plants and animals: </a:t>
            </a:r>
            <a:br>
              <a:rPr sz="26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exchange.smarttech.com/details.html?id=1903b709-c359-4676-a6e2-44aee90b03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Research-based Assign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306440" y="25606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choose from a list of potential diseases/conditions affecting the circulatory system of either plant or anim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can be communicated in a variety of ways such as PowerPoint presentation, Wiki, research pap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Groups must create a handout for the class that includes disease description, symptoms, treatments, preventative measures, consequences to other systems connected to the circulatory/transpor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306440" y="1646280"/>
            <a:ext cx="7696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NTENT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any terms – students must learn parts of heart and plant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Transport direction – which way does blood flow within the heart?  Which vessels carry oxygen and in what direction?  Differences between Xylem and Phloem contents and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1382760" y="484668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306440" y="16462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CESS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is time consuming and requires a strong understanding of how thing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must have a good cross section and must focus the microscope accurately in order to see the necessary compon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of micro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ab is individually writ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pplication-ba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716880" y="4313160"/>
            <a:ext cx="30477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olutions to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06440" y="1646280"/>
            <a:ext cx="769644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Encourage students to develop acronyms/phrases to help remember details ie. Blood through heart cha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clude a vocabulary/terms list and examples of mind maps to refer to as students work through the graphic organi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vide images of plant cross sections as students work through microscope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Refer students to additional resources that provide information on similarities and differences between plant and animal circulatory systems for the communication section of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afety Consider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583160" y="1646280"/>
            <a:ext cx="4419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uter components for the Gizmo activity and research sections of various assignments must be conducted in a responsible manner, including using the internet for educational purpos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154160" y="1494000"/>
            <a:ext cx="3251160" cy="2539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306440" y="4541760"/>
            <a:ext cx="830592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croscope and related lab equipment must be used in accordance with the code of conduct agreed upon at the start of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lassroom must be safely organized so nothing is in the way while groups are working at microscope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actical Applic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382760" y="156996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Use of Nanotechnology in Vascular Cel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ooking into new ways of tracking bacterial/viral movement in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nt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edical Advancements in Circulatory System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sessing how heart condition treatment has changed over the last few decades, and how it could change in the years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382760" y="1494000"/>
            <a:ext cx="80773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UM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Both practical applications are related to the research-based assignment which has rubrics provided to explain how it will be assessed in the following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owerPoint, poster, or other visual method displayi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on chosen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-designed handout and oral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  Unit test will check student understanding of the concep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rts of plant/animal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thways of nutrient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imilarities and differences among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382760" y="149400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teractive Gizmo activity as process learning of animal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irculatory syste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as a visual learning tool to connect vascular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onents in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3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going class discussions based on demonstrations, labs, and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line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98560"/>
            <a:ext cx="442764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We all know that animals, humans included, have a circulatory system made up of blood, blood vessels and a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ut what if we told you that plants also have a similar circulatory system? How is thi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1488960"/>
            <a:ext cx="84582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1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ell Specialization - An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Cells differentiate to become tissue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2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Heart, Blood, Blood vess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3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Vascular tissue system, Xylem, Phlo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4: Plant Circulatory System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Lesson 5: Circulatory System of Animals vs.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6-8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ulminating Task – Research Assig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sso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080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Grade 10 - Biology: Tissues, Organs and Systems of Living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3 Explain the links between specialized cells, tissues,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s, and systems in plants and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4 Explain the primary functions of a variety of systems i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5 Explain the interaction of different systems within a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ism and why such interactions are necessary f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the organism's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B2.7 Use a research process to investigate a disease 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abnormality related to tissues, organs, or systems of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humans 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urriculu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888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Video on Cell Specialization found a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brainpop.com/health/geneticsgrowthanddevelopment/cellspecialization/preview.we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28480" y="228240"/>
            <a:ext cx="90727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ies: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91663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explorelearning.com/index.cfm?method=cResource.dspDetail&amp;ResourceID=662&amp;ClassI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8520" y="25236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irculation in Animal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54160" y="1951200"/>
            <a:ext cx="4952880" cy="68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izmos interactive activity used to develop an understanding of the parts, and pathways of the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tudents must complete this visual lab by using the student worksheet provided to work through each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tensions are provided for students who are able to move beyond the expectations, and for those who require more support, they will be provided with a vocabulary she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6473880" y="2263680"/>
            <a:ext cx="360684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a white carnation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is happening when the flower is in the water?". Discuss ideas as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will happen if I add blue dye to the water?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llow students to come up with a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the flower in the water and discus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 pairs, students complete a mind map (or other graphic organizer) of the plant transport system using textbook &amp; additional online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Vocabulary list is provided to ensure students include all necessar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649840" y="1874880"/>
            <a:ext cx="41529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-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 the lab component, students observe a cross section of a vascular plant cell under the microscope, create a labelled diagram, and communicate their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focuses on comparing similarities and differences between plant and animal circulatory systems including form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345280" y="2103480"/>
            <a:ext cx="44956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4:07:41Z</dcterms:created>
  <dc:creator>cdsolorzano</dc:creator>
  <dc:description/>
  <dc:language>en-US</dc:language>
  <cp:lastModifiedBy>cdsolorzano</cp:lastModifiedBy>
  <dcterms:modified xsi:type="dcterms:W3CDTF">2012-07-27T04:32:42Z</dcterms:modified>
  <cp:revision>11</cp:revision>
  <dc:subject/>
  <dc:title>Teaching the Concept of the Circulatory System: Animals vs. Plants</dc:title>
</cp:coreProperties>
</file>