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C3AF-21F5-4282-ADC3-9B0A4BC60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8480-BBD5-438B-8EB7-E7A4DC8B3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2EA-4D51-4154-B077-EA7E57A81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FD7B-DC46-4721-BF30-EB5334EF5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8ACE-E7B6-4C6D-ABB6-1585F255F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0C8AC-86CE-4EAD-94B1-09B279ED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C19FD-284F-4C3A-8479-BEBC983A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AAA8C-AEEF-4399-AD5A-A358724C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3D295-0160-4BAA-AB57-96D66901F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993A-9AAA-4046-9160-E742E2B2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B7803-9AC9-4B85-AC58-D7DE57BB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48BD-AA05-4039-9DEA-B55C1A4D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EA7A-E21F-4BFA-810C-900C01E31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FF64-967F-46CB-91AA-3778EF69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96684-F7C7-41E4-81E0-4907884DD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59EC-7C30-456E-BF4F-15F8364F9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91030-94B7-45FF-B57F-3CCBF37D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C03-AE09-4B00-AA0C-7F7AA01C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E130-BD8D-446A-A086-3B5E2A8D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0F20-2C51-4FF7-8041-63A34256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1C94-26EC-4A61-9BA4-AAEEF36D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99AE-6555-4C70-AE43-53E067BBD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0549-1C0F-47BC-91ED-59DC783C7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A480-A06F-4D1C-9B18-B63E9949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4A9A-574A-49A2-B706-594AE654995B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1DEDB-F4BC-438C-BE90-56584EE19078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reating and Maintaining Positive Relationships at Work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6. Listen to body messag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ear is the beginning of wisdo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7. Develop a plan to get hel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An ounce of prevention is worth a pound of cure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Scammel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o be prepared for war is one of the most effectual means of preserving pe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George Washing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8. Get a grip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hink before you spea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William Shakespea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9. Be selective when speak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open a can of worm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10. Recognize enemies and dissenters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ool me once shame on you, fool me twice, shame on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1. Speak Softly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peak softly and carry a big stic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Teddy Roosevel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2. Develop listening skill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Listen, don’t just he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3. Utilize credible witnes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There is strength in number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4. Remain Detache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Sticks and stones may break my bones, but names will never hurt 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Mother Goos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5. Move 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cry over split mil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Andrew Yamant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spit into the win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 Jim Cro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Don’t let your heart rule your h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Garamond"/>
              </a:rPr>
              <a:t>Ideas taken from Life would be easy if it weren't for other people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One Take on the Basics of Communication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7200" y="1600200"/>
          <a:ext cx="4038480" cy="226368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o achieve mutually satisfying solutions, honour positive relationships and foster respect. (assert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572000" y="1600200"/>
          <a:ext cx="4114800" cy="228600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hat avoids confrontation, criticism and complaints at all costs – tends to avoid getting involved or taking action.   (pa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57200" y="3938760"/>
          <a:ext cx="4038480" cy="23587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27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that uses manipulation e.g. whining, yelling, pouting, screaming, complaining, crying, getting one’s feelings hur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aggre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4572000" y="3962520"/>
          <a:ext cx="4114800" cy="2359080"/>
        </p:xfrm>
        <a:graphic>
          <a:graphicData uri="http://schemas.openxmlformats.org/drawingml/2006/table">
            <a:tbl>
              <a:tblPr/>
              <a:tblGrid>
                <a:gridCol w="4114800"/>
              </a:tblGrid>
              <a:tr h="27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Communication designed to pay someone back or teach someone a lesson – avoids confrontation but uses manipulation to get even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(passive-aggressive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Red, Yellow, Green Card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Nonviolent Communication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so called Compassionate Communication, Mindful Communication, Conscious Communication, Authentic Communicatio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e goal is to generate a climate where everyone’s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needs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n be considered equally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d when there is an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intention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o make a </a:t>
            </a:r>
            <a:r>
              <a:rPr b="0" lang="en-US" sz="3200" spc="-1" strike="noStrike">
                <a:solidFill>
                  <a:srgbClr val="ff0000"/>
                </a:solidFill>
                <a:latin typeface="Garamond"/>
              </a:rPr>
              <a:t>connection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ich means we may choose not to use it in certain interaction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Basic Premises of NVC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228600" y="914040"/>
            <a:ext cx="8686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humans have the same needs, and all we are ever trying to do, with our words and actions, is to have those needs m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eople are fundamentally compassionate, but we have been trained to appreciate “violence”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ch person is responsible for their feelings, as they are born out of their own needs. Each person is responsible for getting their own needs met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t is possible to express ourselves authentically and remain respectful of other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9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9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The NVC Proces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2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OBSERVATION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the facts (actions, words, gestures) that trigger a reaction in you. NOT interpretations, evaluations, labels…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FEELING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Your reaction to the observations creates feelings in you. All feelings are linked to a need. 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NEED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- Identify the need that is linked to the feeling. Needs are universal, intangible, and intrinsic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5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Garamond"/>
              </a:rPr>
              <a:t>REQUESTS 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– state how you will take charge of meeting your needs, without making demands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2-way Intention to Connec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uthentic Express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Empathic Listen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observ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observation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feel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feeling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ne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need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express my requ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000" spc="-1" strike="noStrike">
                          <a:solidFill>
                            <a:srgbClr val="006e6b"/>
                          </a:solidFill>
                          <a:latin typeface="Garamond"/>
                        </a:rPr>
                        <a:t>I receive your request</a:t>
                      </a:r>
                      <a:endParaRPr b="0" lang="en-US" sz="3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Practic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isualize heading into the same old fight with your partner or a family memb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difficult conversation with a parent of a stud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 chronic issue you have with a colleagu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5 steps To Poor Listening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ember strategy 12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Jackpot! Read article and be ready to answer 5 questions about the artic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Teaching Compulsory Cours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ffffff"/>
                </a:solidFill>
                <a:latin typeface="Garamond"/>
              </a:rPr>
              <a:t>Teaching compulsory courses is no different from teaching other electives.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4-corners: strongly agree, somewhat agree, somewhat disagree, strongly disagre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Go to your corner and compile and chart a list of reasons, and/or examples in your group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Post your list, then we will all do a walk about and consider the other viewpoint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9efee"/>
                </a:solidFill>
                <a:latin typeface="Garamond"/>
              </a:rPr>
              <a:t>Some of my best advice about working in a new (to you) school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Observe and listen to the school culture, reflect on what you can learn from it and how you can contribu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e willing to do more following than leading in your first year but don’t be a leech – contribute positively to your environm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nd a colleague (it doesn’t have to be in your school) to whom you can turn when you have questions or want to reflect on a situ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2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b9efee"/>
                </a:solidFill>
                <a:latin typeface="Garamond"/>
              </a:rPr>
              <a:t>15 Most often used strategies when managing situations</a:t>
            </a:r>
            <a:endParaRPr b="1" lang="en-US" sz="60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4"/>
          <p:cNvSpPr/>
          <p:nvPr/>
        </p:nvSpPr>
        <p:spPr>
          <a:xfrm>
            <a:off x="609480" y="1752480"/>
            <a:ext cx="8077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Forewarned is forearm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 Cervant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ＭＳ Ｐゴシック"/>
              </a:rPr>
              <a:t>Knowledge is pow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Francis Bac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85800" y="6858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1. Gather Pertinent Informa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ols rush in where angels fear to tre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Alexander Pop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iming is everything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-George Bur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889280" y="658800"/>
            <a:ext cx="519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2. Defer Action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3. Refuse to be baite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It takes two to make a figh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Fools bite one another, but wise men agree togethe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George Herbe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4. Compile a list of positive responses to use during uncomfortable discussions</a:t>
            </a:r>
            <a:r>
              <a:rPr b="1" lang="en-CA" sz="4000" spc="-1" strike="noStrike">
                <a:solidFill>
                  <a:srgbClr val="b9efee"/>
                </a:solidFill>
                <a:latin typeface="Garamond"/>
              </a:rPr>
              <a:t>	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Honey catches more flies than vinega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Franklin Praimana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b9efee"/>
                </a:solidFill>
                <a:latin typeface="Garamond"/>
              </a:rPr>
              <a:t>5. Learn to apologiz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It takes a big person to say “I’m sorry.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Garamond"/>
              </a:rPr>
              <a:t>-Unknow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7T13:18:45Z</dcterms:created>
  <dc:creator>jpittlainsbury</dc:creator>
  <dc:description/>
  <dc:language>en-US</dc:language>
  <cp:lastModifiedBy>cdsolorzano</cp:lastModifiedBy>
  <dcterms:modified xsi:type="dcterms:W3CDTF">2012-07-27T04:17:19Z</dcterms:modified>
  <cp:revision>22</cp:revision>
  <dc:subject/>
  <dc:title>Creating and Maintaining Positive Relationships at Work</dc:title>
</cp:coreProperties>
</file>