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633A-1DC4-491D-9EA2-0FD164CD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A02B-11E3-441A-BEEF-7CA317340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69F0-34C8-4AFA-A3DE-EBE35504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5906-D319-404D-A0B8-234B9CE9F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CFD62-DC07-40D6-ADF6-F2AAB3E80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5BAC9-6076-4306-9486-81258DC62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B804E-358A-4E7E-82DE-37E5C365B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D8BE-6A32-4598-A541-40E48BD3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DF04-C4C1-41E3-97A2-3F55925B9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A921D-8ECF-4859-AF1B-E8942D5AB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5E878-7E98-43F5-811D-D0A763D5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18A8-2E27-4DD1-B825-6EC56BEB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1995-F711-46C7-9E03-93789FE8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A253E-43A3-48D5-BCEA-79791E57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F363-ED7A-4BE0-A5B2-D39B6EA2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DA942-6DEF-4E2A-B3BB-C0807804D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DD94-78C4-4AA4-A17E-84DAA1975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3B0-254A-45E5-9850-41AA7185A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2268-F557-491E-9714-91EDAB1C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524-6695-4A27-87EE-438E1AA0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A15A-4246-4C90-882C-7E6AA577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72FF-856D-4D70-839E-D64E9914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5109-81CD-45ED-939E-518028F0A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21B3-3842-445C-99B6-2D0FA2E6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46FC-1B7E-4748-835A-37D9C418A4E4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D10F-7C49-4C16-9ADE-FB3A399F0BD0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reating and Maintaining Positive Relationships at Work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6. Listen to body messag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ear is the beginning of wisd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7. Develop a plan to get hel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An ounce of prevention is worth a pound of c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Scamm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o be prepared for war is one of the most effectual means of preserving pe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George Washing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8. Get a gri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ink before you spe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William Shakespe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9. Be selective when spea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open a can of w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10. Recognize enemies and dissenter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 me once shame on you, fool me twice, shame on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1. Speak Softl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peak softly and carry a big st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Teddy Rooseve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2. Develop listening skil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sten, don’t just h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3. Utilize credible witnes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ere is strength in nu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4. Remain Detach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ticks and stones may break my bones, but names will never hurt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Mother Go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5. Move 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cry over split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Andrew Yaman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spit into the w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Jim Cro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let your heart rule your 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Garamond"/>
              </a:rPr>
              <a:t>Ideas taken from Life would be easy if it weren't for other peopl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ne Take on the Basics of Communica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4038480" cy="2263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o achieve mutually satisfying solutions, honour positive relationships and foster respect. (assert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1600200"/>
          <a:ext cx="4114800" cy="22860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avoids confrontation, criticism and complaints at all costs – tends to avoid getting involved or taking action.   (pa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" y="3938760"/>
          <a:ext cx="4038480" cy="2358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uses manipulation e.g. whining, yelling, pouting, screaming, complaining, crying, getting one’s feelings hur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72000" y="3962520"/>
          <a:ext cx="4114800" cy="23590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designed to pay someone back or teach someone a lesson – avoids confrontation but uses manipulation to get ev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passive-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Red, Yellow, Green Car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onviolent Communic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so called Compassionate Communication, Mindful Communication, Conscious Communication, Authentic Communi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oal is to generate a climate where everyone’s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eed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considered equal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when there is an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intenti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ke 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onne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means we may choose not to use it in certain interac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Premises of NVC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humans have the same needs, and all we are ever trying to do, with our words and actions, is to have those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are fundamentally compassionate, but we have been trained to appreciate “violence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person is responsible for their feelings, as they are born out of their own needs. Each person is responsible for getting their own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possible to express ourselves authentically and remain respectful of oth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NVC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the facts (actions, words, gestures) that trigger a reaction in you. NOT interpretations, evaluations, labels…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FEELING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Your reaction to the observations creates feelings in you. All feelings are linked to a need.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NEED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- Identify the need that is linked to the feeling. Needs are universal, intangible, and intrinsic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REQUEST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state how you will take charge of meeting your needs, without making demands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-way Intention to Conne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thentic Express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mpathic Listen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acti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ualize heading into the same old fight with your partner or a family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fficult conversation with a parent of a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hronic issue you have with a collea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5 steps To Poor Listen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 strategy 12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ckpot! Read article and be ready to answer 5 questions about the arti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Teaching Compulsory Cour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Teaching compulsory courses is no different from teaching other electives.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4-corners: strongly agree, somewhat agree, somewhat disagree, strongly disag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Go to your corner and compile and chart a list of reasons, and/or examples in your group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Post your list, then we will all do a walk about and consider the other viewpoi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me of my best advice about working in a new (to you) school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serve and listen to the school culture, reflect on what you can learn from it and how you can contrib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willing to do more following than leading in your first year but don’t be a leech – contribute positively to your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a colleague (it doesn’t have to be in your school) to whom you can turn when you have questions or want to reflect on a sit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5 Most often used strategies when managing situati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09480" y="175248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Forewarned is forearm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erv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Knowledge is p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Francis Bac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5800" y="685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. Gather Pertinent Infor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ls rush in where angels fear to tr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lexander P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ing is everyth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George Bu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889280" y="658800"/>
            <a:ext cx="51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2. Defer 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3. Refuse to be bait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two to make a f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s bite one another, but wise men agree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George Herbe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4. Compile a list of positive responses to use during uncomfortable discussions</a:t>
            </a: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Honey catches more flies than vineg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Franklin Praiman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5. Learn to apologiz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a big person to say “I’m sorr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18:45Z</dcterms:created>
  <dc:creator>jpittlainsbury</dc:creator>
  <dc:description/>
  <dc:language>en-US</dc:language>
  <cp:lastModifiedBy>cdsolorzano</cp:lastModifiedBy>
  <dcterms:modified xsi:type="dcterms:W3CDTF">2012-07-27T04:17:19Z</dcterms:modified>
  <cp:revision>22</cp:revision>
  <dc:subject/>
  <dc:title>Creating and Maintaining Positive Relationships at Work</dc:title>
</cp:coreProperties>
</file>