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5F7-87E4-4193-BA31-6AF80C1E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8D8-88CE-4DBD-AB91-B1870C57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FF5-F9C5-42A8-A89E-3A728AE9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0D3-382F-4722-9112-EDFB69E2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2BFA-5E91-4A70-BBE1-1F943BC3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A310-B9F3-4E8B-8C77-48183A2E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902B-0FE2-403A-9B65-2BAAED33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7973-FB27-409C-BD12-D61DEBC5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FE7F-C34A-479D-8917-8314DADF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53C4-CC76-493A-8164-C5CBFE1C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4793-30C2-4512-9F3B-20CE3D6B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C71-046A-487D-AE69-8B22936C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DEB0-26C7-4484-A74B-8EFE0E4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53D-792C-4B44-8238-DB14B720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5F1C-863F-4146-BADC-CB1447B5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AB2C-6D8A-4E3D-A23D-9F0843C2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3A52-2D48-481F-B888-7A2D5AD4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804-AC38-48E5-A584-7D6807C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26F-5935-413F-B002-058BC237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B96-7036-4AFB-93A3-C8D9E879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44E-CAA3-4F8C-AE66-F71CDC22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DB5-2A31-42D8-A008-44F55332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907-A3DB-416D-B93F-786F7E5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B7E-CE57-4AFA-9AFF-D57A5197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AF51-24FE-472B-B41D-FD2375A5DF7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1F2A-0259-4E13-B518-900740A789C0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reating and Maintaining Positive Relationships at Work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6. Listen to body messag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ear is the beginning of wisd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7. Develop a plan to get hel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An ounce of prevention is worth a pound of c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Scamm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o be prepared for war is one of the most effectual means of preserving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George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8. Get a gri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ink before you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William Shakespe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9. Be selective when spea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open a can of w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10. Recognize enemies and dissente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 me once shame on you, fool me twice, shame on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1. Speak Soft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peak softly and carry a big st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Teddy Roosev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2. Develop listening skil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sten, don’t just h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3. Utilize credible witn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ere is strength in 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4. Remain Detach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ticks and stones may break my bones, but names will never hurt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Mother Go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5. Move 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cry over split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Andrew Yaman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spit into the w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Jim Cro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let your heart rule your 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Garamond"/>
              </a:rPr>
              <a:t>Ideas taken from Life would be easy if it weren't for other peopl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ne Take on the Basics of Communic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4038480" cy="2263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o achieve mutually satisfying solutions, honour positive relationships and foster respect. (assert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60020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avoids confrontation, criticism and complaints at all costs – tends to avoid getting involved or taking action.   (pa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3938760"/>
          <a:ext cx="4038480" cy="2358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uses manipulation e.g. whining, yelling, pouting, screaming, complaining, crying, getting one’s feelings hur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0" y="3962520"/>
          <a:ext cx="4114800" cy="23590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designed to pay someone back or teach someone a lesson – avoids confrontation but uses manipulation to get 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passive-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Red, Yellow, Green Car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nviolent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Compassionate Communication, Mindful Communication, Conscious Communication, Authentic Commun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al is to generate a climate where everyone’s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ed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considered equal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when there is an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inten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ke 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onn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we may choose not to use it in certain interac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Premises of NVC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humans have the same needs, and all we are ever trying to do, with our words and actions, is to have those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re fundamentally compassionate, but we have been trained to appreciate “violenc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person is responsible for their feelings, as they are born out of their own needs. Each person is responsible for getting their own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possible to express ourselves authentically and remain respectful of oth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NVC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the facts (actions, words, gestures) that trigger a reaction in you. NOT interpretations, evaluations, labels…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FEELING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Your reaction to the observations creates feelings in you. All feelings are linked to a need.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NEED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- Identify the need that is linked to the feeling. Needs are universal, intangible, and intrinsic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REQUEST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state how you will take charge of meeting your needs, without making demands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-way Intention to Conne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thentic Express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mpathic Listen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acti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ualize heading into the same old fight with your partner or a family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fficult conversation with a parent of a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hronic issue you have with a collea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 steps To Poor Liste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strategy 12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ckpot! Read article and be ready to answer 5 questions about the arti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Teaching Compulsory Cour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Teaching compulsory courses is no different from teaching other electives.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4-corners: strongly agree, somewhat agree, somewhat disagree, strongly disa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Go to your corner and compile and chart a list of reasons, and/or examples in your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Post your list, then we will all do a walk about and consider the other viewpoi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me of my best advice about working in a new (to you) schoo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and listen to the school culture, reflect on what you can learn from it and how you can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willing to do more following than leading in your first year but don’t be a leech – contribute positively to your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a colleague (it doesn’t have to be in your school) to whom you can turn when you have questions or want to reflect on a sit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5 Most often used strategies when managing situati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175248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Forewarned is forea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rv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Knowledge is 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rancis Ba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5800" y="685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. Gather Pertinent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ls rush in where angels fear to tr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lexander P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ing is everyth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George Bu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89280" y="658800"/>
            <a:ext cx="51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2. Defer 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3. Refuse to be bait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two to make a f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s bite one another, but wise men agre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George Herbe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4. Compile a list of positive responses to use during uncomfortable discussions</a:t>
            </a: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Honey catches more flies than vineg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Franklin Praiman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5. Learn to apologiz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a big person to say “I’m sorr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18:45Z</dcterms:created>
  <dc:creator>jpittlainsbury</dc:creator>
  <dc:description/>
  <dc:language>en-US</dc:language>
  <cp:lastModifiedBy>cdsolorzano</cp:lastModifiedBy>
  <dcterms:modified xsi:type="dcterms:W3CDTF">2012-07-27T04:17:19Z</dcterms:modified>
  <cp:revision>22</cp:revision>
  <dc:subject/>
  <dc:title>Creating and Maintaining Positive Relationships at Work</dc:title>
</cp:coreProperties>
</file>