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AD75-19B5-4707-85F0-835B8986C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C72B-9526-47C7-ABBB-7E398BEE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7D5-AE1A-4602-B8A6-2D21B1170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5E01-B645-4E3B-918E-48D5205D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B791-AF07-47B4-9FFE-837340F6E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51263-BFF2-476F-8E05-200587CD7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8D393-BB33-4224-A82F-6914DCB0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F64C5-70C9-4BCC-ABC5-E00E0C34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9D85A-7172-4ECC-96AB-1DBBF1958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92FA7-C09A-4413-9590-155642EFF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1E9C-BC7C-4082-A70F-41B8B1AA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8EB1-DC19-41F6-9580-2D0C2266A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0F1B8-F0A0-4776-B060-30227058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B6D3-E065-4711-AA8E-D27F4C6A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32CD6-8641-464B-B011-DA4F058AA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9D43-C3B2-4280-A09E-BBCBA518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AA36-1710-4003-BE78-D5DD1260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1E83-20A0-47D3-B152-9BB7B545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784-5DAA-4807-8992-D7399E2E1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AAE-8392-4130-9C6C-35B4A3AB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D0D0-FFB7-4BB0-ADBB-9E3D1618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FB87-1FD1-4D8A-91FB-FEDF12E3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B9D1-C49C-479F-9546-406D6858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F41DB-82AC-4416-9565-7EF975F4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D7BD-60EE-4700-9E6F-996CCCEF51FD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25403-08C7-4EA9-8556-86E18A7031C3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reating and Maintaining Positive Relationships at Work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6. Listen to body messag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ear is the beginning of wisd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7. Develop a plan to get hel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An ounce of prevention is worth a pound of cur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Scamm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o be prepared for war is one of the most effectual means of preserving pe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George Washing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8. Get a gri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hink before you spe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William Shakespe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9. Be selective when speak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open a can of w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10. Recognize enemies and dissenter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ool me once shame on you, fool me twice, shame on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1. Speak Softl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peak softly and carry a big sti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Teddy Roosevel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2. Develop listening skil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Listen, don’t just h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3. Utilize credible witnes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here is strength in nu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4. Remain Detache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ticks and stones may break my bones, but names will never hurt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Mother Go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5. Move 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cry over split mil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Andrew Yaman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spit into the wi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Jim Cro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let your heart rule your h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Garamond"/>
              </a:rPr>
              <a:t>Ideas taken from Life would be easy if it weren't for other peopl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ne Take on the Basics of Communica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4038480" cy="2263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o achieve mutually satisfying solutions, honour positive relationships and foster respect. (assert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0" y="1600200"/>
          <a:ext cx="4114800" cy="22860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hat avoids confrontation, criticism and complaints at all costs – tends to avoid getting involved or taking action.   (pa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57200" y="3938760"/>
          <a:ext cx="4038480" cy="2358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hat uses manipulation e.g. whining, yelling, pouting, screaming, complaining, crying, getting one’s feelings hur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ggre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572000" y="3962520"/>
          <a:ext cx="4114800" cy="23590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7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designed to pay someone back or teach someone a lesson – avoids confrontation but uses manipulation to get ev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passive-aggre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Red, Yellow, Green Card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onviolent Communic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so called Compassionate Communication, Mindful Communication, Conscious Communication, Authentic Communic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oal is to generate a climate where everyone’s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need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be considered equal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d when there is an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intentio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make a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onnec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ch means we may choose not to use it in certain interacti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sic Premises of NVC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humans have the same needs, and all we are ever trying to do, with our words and actions, is to have those needs m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are fundamentally compassionate, but we have been trained to appreciate “violence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person is responsible for their feelings, as they are born out of their own needs. Each person is responsible for getting their own needs m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possible to express ourselves authentically and remain respectful of oth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NVC Proc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OBSERVATION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the facts (actions, words, gestures) that trigger a reaction in you. NOT interpretations, evaluations, labels…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FEELING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Your reaction to the observations creates feelings in you. All feelings are linked to a need.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NEED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- Identify the need that is linked to the feeling. Needs are universal, intangible, and intrinsic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REQUEST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state how you will take charge of meeting your needs, without making demands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2-way Intention to Conne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thentic Express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mpathic Listen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observ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observ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feel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feel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ne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ne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requ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requ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acti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ualize heading into the same old fight with your partner or a family me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ifficult conversation with a parent of a stu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hronic issue you have with a collea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5 steps To Poor Listen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ember strategy 12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ckpot! Read article and be ready to answer 5 questions about the arti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Teaching Compulsory Cour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Teaching compulsory courses is no different from teaching other electives.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4-corners: strongly agree, somewhat agree, somewhat disagree, strongly disag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Go to your corner and compile and chart a list of reasons, and/or examples in your group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Post your list, then we will all do a walk about and consider the other viewpoin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ome of my best advice about working in a new (to you) school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serve and listen to the school culture, reflect on what you can learn from it and how you can contribu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willing to do more following than leading in your first year but don’t be a leech – contribute positively to your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a colleague (it doesn’t have to be in your school) to whom you can turn when you have questions or want to reflect on a sit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15 Most often used strategies when managing situation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609480" y="175248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Forewarned is forearm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erv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Knowledge is p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Francis Bac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85800" y="6858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. Gather Pertinent Inform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ls rush in where angels fear to tr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Alexander Po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ing is everyth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George Bu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889280" y="658800"/>
            <a:ext cx="519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2. Defer A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3. Refuse to be baite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It takes two to make a f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ools bite one another, but wise men agree toge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George Herbe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4. Compile a list of positive responses to use during uncomfortable discussions</a:t>
            </a: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Honey catches more flies than vineg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Franklin Praimana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5. Learn to apologiz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It takes a big person to say “I’m sorry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3:18:45Z</dcterms:created>
  <dc:creator>jpittlainsbury</dc:creator>
  <dc:description/>
  <dc:language>en-US</dc:language>
  <cp:lastModifiedBy>cdsolorzano</cp:lastModifiedBy>
  <dcterms:modified xsi:type="dcterms:W3CDTF">2012-07-27T04:17:19Z</dcterms:modified>
  <cp:revision>22</cp:revision>
  <dc:subject/>
  <dc:title>Creating and Maintaining Positive Relationships at Work</dc:title>
</cp:coreProperties>
</file>