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F0EE-D33B-40B4-80AD-C0D3D9AAD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63BD-ADA3-4463-A71D-91FCDCCBB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2CCB-3DB8-45C3-98BE-1540F61C7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2117-4E53-4740-A698-D46CAB5EF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4DAA51-BC19-4700-9955-FAE921899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D06760-D551-4C47-A38F-FF735E0DE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85B279-9B0A-4DFF-A294-9AF5CCA13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02B44B-61F9-4372-AF55-9D8A41615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4297BB-F76C-48DB-8731-DC6B1861D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32EB32-CF1E-41A0-87DF-E268A2E61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450BE0-DC9E-4CA9-913E-9D1E308D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BBBD-D6F7-42C5-8A93-2687F9849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D7348C-6657-4C0D-91A7-21F15A379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C9C77D-1DAA-4690-BC26-82A64009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3EE989-4DBB-415E-86A7-3E18115F8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515C59-0196-4E4B-8F83-588F6ECE0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51DDCC-D8EC-4FCD-B942-47C27B93F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D7D0-8B19-4EEF-87C1-1AC7E79EE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88BC-5980-48E8-A3A3-EF369D9F2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6A2D-9B38-41D7-A571-048BFC32A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5630-2B11-4C4E-9608-119899683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BA4F-11AA-4528-8C35-560D81EB8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09E7-02B6-4333-9AB9-84BA75A5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1C40-A83A-4ABC-AEB4-0E1CD28F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0658-C664-4ED3-91E6-44283F7E6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C4B5C-23C2-49A6-B43E-49636C83F0C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isconceptions in Gases and Atmospheric Pressu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tin, P S. (2009). Facilitating Conceptual Change in Gases Concepts. Journal of Science Education and Technology, 18(2), 130-137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s, C J. (1987). Parallels between Adolescents. Journal of Chemical Education, 64(7), 616-18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agnostic Test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Question 1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 room temperature and pressure, if a 1 g mass is placed on one side of a balance and a 4 L balloon (show students what a 4 L size looks like) filled with pure oxygen gas is placed on the other, the balance wi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) tip towards the 1 g ma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) tip towards the 4 L ballo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) stay evenly balanced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) Not enough information i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vailable to answer this questi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5" descr="balance"/>
          <p:cNvPicPr/>
          <p:nvPr/>
        </p:nvPicPr>
        <p:blipFill>
          <a:blip r:embed="rId1"/>
          <a:stretch/>
        </p:blipFill>
        <p:spPr>
          <a:xfrm>
            <a:off x="4876920" y="304920"/>
            <a:ext cx="236196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uestion 2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) If a balloon filled with a gas is popped, the gas will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se to the top of the ro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nk to the bottom of the ro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ither float nor sink but stay at the level of the ballo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 enough information is available to answer this ques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uestion 3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1,000,000 molecules of ice are melted into liquid water and then boiled into steam the correct relationship between the mass of the ice, water and steam i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ss of ice&gt;mass of water&gt;mass of ste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ss of ice&lt;mass of water&lt;mass of ste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ss of ice = mass of water = mass of ste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enough information to answer this ques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uestion 4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) If water is boiled, the molecules wi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rin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y the same siz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is not enough information to answer this ques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uestion 5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) If the valve on a bike tire is opened so that the air can leak out of the tire, the following will be true once the tire is completely deflated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pressure inside is less than outside the ti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pressure inside is more than outside the ti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pressure inside is equal to outside the ti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is not enough information to answer this ques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48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“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learning of scientific concepts often parallels the historical development of science”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eaching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and Learning of Scientific material is greatly enhanced if the students’ pre-existing conceptual scheme is considered when pedagogic strategy is planned”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udent Misconception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1,2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 Gases have no mass*    Collary: In chemical reactions where gases are produced the law of conservation of energy may not apply. (this is an Aristotelian conception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weight = tendency to fal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) Gases always rise*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) Gases are nothing*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) For an equal number of molecules of a substance, gases will weigh less than liquids (which weigh less than solids) i.e. hot air weighs less than cold air*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) Molecules increase in size with change of state from solid to liquid to gas*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609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) The energy gradually dies so gas motion stops in a deflated ballo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) The particles of a gas are unevenly spread in a closed sp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8) Air neither has mass, nor can it occupy sp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) In compressed air, the particles are compacted like a solid and do not mo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0) Matter exists between ato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1) A deflated bike tire has less pressure inside than ou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6T19:09:59Z</dcterms:created>
  <dc:creator>jpittlainsbury</dc:creator>
  <dc:description/>
  <dc:language>en-US</dc:language>
  <cp:lastModifiedBy>cdsolorzano</cp:lastModifiedBy>
  <dcterms:modified xsi:type="dcterms:W3CDTF">2012-07-27T03:51:24Z</dcterms:modified>
  <cp:revision>12</cp:revision>
  <dc:subject/>
  <dc:title>Gases and Atmospheric Pressure</dc:title>
</cp:coreProperties>
</file>