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EB9-6501-4A1F-A169-F8A91FBC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752-431D-4D67-9075-1E7C83AD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5F0-A0A2-4482-89FA-DFE679B4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044-99AC-404A-AC9E-28327329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D8381-2594-440E-A52C-E2383CE3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67CFD-C65D-431E-8038-331C211A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F09B6-4233-4823-8F61-8D01BFAF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AAC9E-3ACA-4C49-BACA-BCC115FF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16BEF-5DD6-4890-AC88-B96B182C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D7ECC-9FD5-46A5-BA0B-1E94078A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21401-F0D3-49D8-8415-622078B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8C7-9126-44B7-8522-5189DB55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8CF71-861A-4DDA-9D1D-C540B85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E7768-5994-4166-AF7D-5979C992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68F4D-2DA5-4717-8A72-9F84FBF8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A9A86-57B6-49F3-8698-2E4F43EB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C1BB4-5C77-46C1-9F02-99013D67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2FC-0560-4930-BFC5-B37A74D6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441-77F1-4972-A48E-402E3650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81F-2B2F-4407-BE69-A5D7AFC6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5D8-8FA4-4285-9247-DEB3337F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922-5FCA-480B-A4C3-6C7F69E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C62-7D57-4AD7-A307-AC962D8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53E-1ABF-4B5C-80D6-973A98EE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941A-A4A5-47EC-97E7-C05BF2E3F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E2BA-C80E-4434-B35A-E46C526B69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onceptions in Gases and Atmospheric Press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tin, P S. (2009). Facilitating Conceptual Change in Gases Concepts. Journal of Science Education and Technology, 18(2), 130-13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, C J. (1987). Parallels between Adolescents. Journal of Chemical Education, 64(7), 616-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nostic 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room temperature and pressure, if a 1 g mass is placed on one side of a balance and a 4 L balloon (show students what a 4 L size looks like) filled with pure oxygen gas is placed on the other, the balanc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tip towards the 1 g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tip towards the 4 L ball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stay evenly balanced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Not enough information 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to answer this ques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balance"/>
          <p:cNvPicPr/>
          <p:nvPr/>
        </p:nvPicPr>
        <p:blipFill>
          <a:blip r:embed="rId1"/>
          <a:stretch/>
        </p:blipFill>
        <p:spPr>
          <a:xfrm>
            <a:off x="4876920" y="304920"/>
            <a:ext cx="23619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If a balloon filled with a gas is popped, the gas wi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e to the top of the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k to the bottom of the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ither float nor sink but stay at the level of the ball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nough information is available to answer thi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1,000,000 molecules of ice are melted into liquid water and then boiled into steam the correct relationship between the mass of the ice, water and steam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&gt;mass of water&gt;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&lt;mass of water&lt;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 = mass of water = 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ough information to answer this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If water is boiled, the molecules 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 the same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not enough information to answer thi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) If the valve on a bike tire is opened so that the air can leak out of the tire, the following will be true once the tire is completely deflat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less than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more than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equal to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not enough information to answer this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arning of scientific concepts often parallels the historical development of science”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ach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Learning of Scientific material is greatly enhanced if the students’ pre-existing conceptual scheme is considered when pedagogic strategy is planned”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Misconception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1,2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Gases have no mass*    Collary: In chemical reactions where gases are produced the law of conservation of energy may not apply. (this is an Aristotelian conceptio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eight = tendency to fal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Gases always rise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Gases are nothing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) For an equal number of molecules of a substance, gases will weigh less than liquids (which weigh less than solids) i.e. hot air weighs less than cold air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) Molecules increase in size with change of state from solid to liquid to gas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) The energy gradually dies so gas motion stops in a deflated ball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) The particles of a gas are unevenly spread in a closed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) Air neither has mass, nor can it occupy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) In compressed air, the particles are compacted like a solid and do not m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) Matter exists between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) A deflated bike tire has less pressure inside than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9:09:59Z</dcterms:created>
  <dc:creator>jpittlainsbury</dc:creator>
  <dc:description/>
  <dc:language>en-US</dc:language>
  <cp:lastModifiedBy>cdsolorzano</cp:lastModifiedBy>
  <dcterms:modified xsi:type="dcterms:W3CDTF">2012-07-27T03:51:24Z</dcterms:modified>
  <cp:revision>12</cp:revision>
  <dc:subject/>
  <dc:title>Gases and Atmospheric Pressure</dc:title>
</cp:coreProperties>
</file>