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D775-FEF5-4373-8E7F-CE0E3AA9D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ADEF-39F4-4E95-B0FB-310600444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5521-0F45-4B18-B095-5687C14A5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8B85-4B7F-47B4-9F29-A5AB5B48B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F5321-5E84-4D9C-9D34-12629F2B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BD656C-AED6-44D5-A2D3-E9A25677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67A77B-6DF2-4446-B4A8-6E05D39A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CBEFB-C18D-4F32-9565-DDBDF9CC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11850D-B201-4F85-89DB-EA8777E2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66049-E72F-4B4B-929D-CA87D562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3F305-C108-4B6E-84E9-39A9463E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CF91-9087-4CF2-8E37-F3D6BEE5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189FE-979A-4D6E-A237-854A0048C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0058FB-F8E0-48C0-A64F-E19B7357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D902FD-FCE3-4F9E-89EC-DA3AC832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80827C-1FA1-4026-A18D-9DB566761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337260-3C61-46AC-A0BD-12F671B7B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C9AC-D9DF-402C-81A3-39B79F028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D758-6560-47FC-AF51-F5455765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4B14-7EB1-4840-8071-3A990B74F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04C8-8D27-44E9-A185-B6B7B9A6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29DA4-D630-4F00-B5DE-5092FD57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927B-32C4-4749-9A3E-6F173E3AD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FFED-DDEA-4E63-85D6-86685210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B5D61-D1B0-4884-9ADF-5EE88D95F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BB91-2BCA-4C2C-A91F-8F52751AF9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sconceptions in Gases and Atmospheric Pressu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tin, P S. (2009). Facilitating Conceptual Change in Gases Concepts. Journal of Science Education and Technology, 18(2), 130-137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s, C J. (1987). Parallels between Adolescents. Journal of Chemical Education, 64(7), 616-18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agnostic Test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Question 1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 room temperature and pressure, if a 1 g mass is placed on one side of a balance and a 4 L balloon (show students what a 4 L size looks like) filled with pure oxygen gas is placed on the other, the balance wi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) tip towards the 1 g ma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) tip towards the 4 L ball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) stay evenly balanced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) Not enough information i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vailable to answer this questio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5" descr="balance"/>
          <p:cNvPicPr/>
          <p:nvPr/>
        </p:nvPicPr>
        <p:blipFill>
          <a:blip r:embed="rId1"/>
          <a:stretch/>
        </p:blipFill>
        <p:spPr>
          <a:xfrm>
            <a:off x="4876920" y="304920"/>
            <a:ext cx="236196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 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) If a balloon filled with a gas is popped, the gas will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se to the top of the ro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k to the bottom of the ro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ither float nor sink but stay at the level of the ballo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enough information is available to answer this ques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 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1,000,000 molecules of ice are melted into liquid water and then boiled into steam the correct relationship between the mass of the ice, water and steam i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s of ice&gt;mass of water&gt;mass of ste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s of ice&lt;mass of water&lt;mass of ste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s of ice = mass of water = mass of ste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enough information to answer this ques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 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) If water is boiled, the molecules w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ri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y the same siz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re is not enough information to answer this ques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estion 5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48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) If the valve on a bike tire is opened so that the air can leak out of the tire, the following will be true once the tire is completely deflated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essure inside is less than outside the t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essure inside is more than outside the t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pressure inside is equal to outside the ti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8280" indent="-548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re is not enough information to answer this ques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48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“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he learning of scientific concepts often parallels the historical development of science”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9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aching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and Learning of Scientific material is greatly enhanced if the students’ pre-existing conceptual scheme is considered when pedagogic strategy is planned”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ahoma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 Misconceptions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ahoma"/>
              </a:rPr>
              <a:t>1,2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837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) Gases have no mass*    Collary: In chemical reactions where gases are produced the law of conservation of energy may not apply. (this is an Aristotelian conception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weight = tendency to fal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) Gases always rise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) Gases are nothing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) For an equal number of molecules of a substance, gases will weigh less than liquids (which weigh less than solids) i.e. hot air weighs less than cold air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) Molecules increase in size with change of state from solid to liquid to gas*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6094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) The energy gradually dies so gas motion stops in a deflated ballo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7) The particles of a gas are unevenly spread in a closed sp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8) Air neither has mass, nor can it occupy sp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9) In compressed air, the particles are compacted like a solid and do not mo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) Matter exists between ato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1) A deflated bike tire has less pressure inside than 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7240" indent="-5972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6T19:09:59Z</dcterms:created>
  <dc:creator>jpittlainsbury</dc:creator>
  <dc:description/>
  <dc:language>en-US</dc:language>
  <cp:lastModifiedBy>cdsolorzano</cp:lastModifiedBy>
  <dcterms:modified xsi:type="dcterms:W3CDTF">2012-07-27T03:51:24Z</dcterms:modified>
  <cp:revision>12</cp:revision>
  <dc:subject/>
  <dc:title>Gases and Atmospheric Pressure</dc:title>
</cp:coreProperties>
</file>