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EC9-99B3-43B2-8B3E-FF5D590B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A82-44B6-4A83-AB54-20492FBD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1F8-7766-492D-B230-926F8192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36B-6BCC-4F26-A61A-CF9E588F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4987-A635-40CB-9DA8-7E211E95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80A96-F9C4-463B-8BE3-49D285DD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03247-4316-4A40-AE24-76160B8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14941-7736-482F-B345-02510DA6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F5EB-A81C-4B0A-9145-FD2577A9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0722F-18C2-4D7B-B130-E37241E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12B9-9C41-468A-925D-66DF95B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D3A-27D4-4A4C-BDC7-594EF79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5DD8-75AD-4314-909E-1313A2B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7DF4-0139-4AB7-8B42-1DDAE28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E351-4707-4FD3-B371-1445DC9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EE0E-265D-4B3B-8489-A6804AB3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FEFB9-139E-40E7-8FBC-A92AA656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FD4-65F2-4DF5-AD15-A2E476D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CBD-29B1-4781-A834-301EA03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E15-9E9E-448C-9AF2-29479026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B38-E812-49AA-868D-65887016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CD0-0944-4B8E-B6C5-4D289420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301-94CB-4A3F-AC81-DB6BBFD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0C8-2CE4-4462-831D-27CC08B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E9AB-D1C1-4580-94AA-4FAD7814F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57FE-0D17-4332-A62D-3A377FECD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onceptions in Gases and Atmospheric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tin, P S. (2009). Facilitating Conceptual Change in Gases Concepts. Journal of Science Education and Technology, 18(2), 130-13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, C J. (1987). Parallels between Adolescents. Journal of Chemical Education, 64(7), 616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nostic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oom temperature and pressure, if a 1 g mass is placed on one side of a balance and a 4 L balloon (show students what a 4 L size looks like) filled with pure oxygen gas is placed on the other, the balanc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ip towards the 1 g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tip towards the 4 L ball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tay evenly balance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Not enough informa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swer this ques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balance"/>
          <p:cNvPicPr/>
          <p:nvPr/>
        </p:nvPicPr>
        <p:blipFill>
          <a:blip r:embed="rId1"/>
          <a:stretch/>
        </p:blipFill>
        <p:spPr>
          <a:xfrm>
            <a:off x="4876920" y="304920"/>
            <a:ext cx="23619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If a balloon filled with a gas is popped, the ga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to the top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k to the bottom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float nor sink but stay at the level of the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nough information is available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1,000,000 molecules of ice are melted into liquid water and then boiled into steam the correct relationship between the mass of the ice, water and steam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gt;mass of water&g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lt;mass of water&l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 = mass of water = 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If water is boiled, the molecules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the same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) If the valve on a bike tire is opened so that the air can leak out of the tire, the following will be true once the tire is completely defl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less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more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equal to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arning of scientific concepts often parallels the historical development of science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Learning of Scientific material is greatly enhanced if the students’ pre-existing conceptual scheme is considered when pedagogic strategy is planned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isconception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1,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Gases have no mass*    Collary: In chemical reactions where gases are produced the law of conservation of energy may not apply. (this is an Aristotelian concepti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ight = tendency to f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Gases always rise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Gases are no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For an equal number of molecules of a substance, gases will weigh less than liquids (which weigh less than solids) i.e. hot air weighs less than cold air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) Molecules increase in size with change of state from solid to liquid to gas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The energy gradually dies so gas motion stops in a deflated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particles of a gas are unevenly spread in a clos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) Air neither has mass, nor can it occupy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) In compressed air, the particles are compacted like a solid and do not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) Matter exist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) A deflated bike tire has less pressure inside than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9:59Z</dcterms:created>
  <dc:creator>jpittlainsbury</dc:creator>
  <dc:description/>
  <dc:language>en-US</dc:language>
  <cp:lastModifiedBy>cdsolorzano</cp:lastModifiedBy>
  <dcterms:modified xsi:type="dcterms:W3CDTF">2012-07-27T03:51:24Z</dcterms:modified>
  <cp:revision>12</cp:revision>
  <dc:subject/>
  <dc:title>Gases and Atmospheric Pressure</dc:title>
</cp:coreProperties>
</file>