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EA3-E7A6-4DEA-95A8-CDBB713B3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650D-B9F4-4C1A-AAE1-CD7B5E7C8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DA7B-B895-46AC-84F0-52529AE7A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D950-ADB0-409D-A19C-85C4B843A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8CEC6-AD9F-4BBE-9D4F-9359EA5BB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5AFD7-B0BB-4FD4-9349-BE783E70B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6F715-6B3B-4CE1-845D-4F8C66C8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3013-373B-44E7-A775-4C2AB706F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2CE0B-8EBC-4BDD-A15D-E6C583472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A1D8-5315-4196-A2ED-6CB70324B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C512A-14D0-4A36-9B11-A5143DF6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7B4-772C-479A-A67E-BD63E43E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BCD37-03EB-463B-B044-CFFB7157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1E94C-D2B9-4728-B6A6-1A6711EC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10AB3-A44C-4369-B21D-9303BA62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F5118-75A5-4FAA-921E-D7FC647B7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EA33-8638-4AC3-83CA-8E9CF03F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87FBC6-161D-4C2D-A425-ECC5182E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E6087-E776-4324-BD29-F8C4DE4A6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4705D-6405-44C9-AA17-3BA09094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D55953-4050-4B86-B008-7B03EBDA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4BD6FE-8387-4B78-AEE0-45DBD917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4AE2-77D7-4885-A32E-65E01812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BEDA5-809C-4BD7-ABC7-1EF2B67F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17D11F-AEC1-4670-A3D6-A6A091C75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34929B-C972-4851-9C60-8A373B7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8BF035-F429-45A0-9B83-546A9A3C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6FA4F-B601-4727-BC83-7D6BC6EB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59B4F-9956-4176-B2B0-5EC24A12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B88149-0D04-4166-A417-042BA9ED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2F05CE-3CA6-476B-A62E-3290DFEE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3BEFE5-1FD7-4AB7-B0C6-9D3426123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5E110B-723F-425B-A596-6CEB31554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5751-2DF4-4EC4-B225-BA6742B7D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ADCD9D2-2728-4FB9-B628-116656019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B64195-13B8-4F6D-8830-45A42F28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69420-DD9C-43E3-B09A-49A56CF7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848C3B-CA1D-4171-A45A-8D582C7D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649E06-B787-4692-919C-C206E6B5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9BDFCA-E34E-4C40-99D3-81439A87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116299-C891-48D4-8540-F3A9C0E96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94C08F-40C6-4FDA-B19C-C065234B8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839F39-AA7E-4332-B645-D36E276C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AC599-2926-4874-943B-F84DEB91F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4279-763B-48AB-BFB3-D4B94AF9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254BF0-E39A-4BAA-BB00-F59AD511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A1F5A7-1780-4690-ACE5-F91164AC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E26CA-736A-480B-A1FC-F103BDA0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C6047C-B19C-4FF2-AED9-11D66ED4C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C1A7D6-45D5-4760-A2F8-CB5F44C5A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EAE9BC-8A23-488F-B8BF-110D3C59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11877-3F58-4895-B0A5-F2FEC391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688313-0A61-4394-98E7-5686AB1D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BFE70F-D1A5-4E28-BDBA-F6716E617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C0081-77D7-41ED-895B-2B57848AE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2D4D-9EC2-4C7F-BAB8-BA41ECDD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AEC511-6CFF-4E43-BE1A-157E5D73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E0F09-43BE-4C01-AFD7-B1650906B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9A505-0102-45FF-84C5-1F5CEC3A3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DCA2A1-0A28-461D-A561-15B3D240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E0D8E4-F654-4654-9BB2-49B944CE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95686-5641-459F-A540-D77AD200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CE276-1453-4273-B4C1-2E8C5E8E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8C674-FCD8-4B08-8C7A-16BD5526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DB4727-7992-4110-9392-01EA88F01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DA5E7-5A02-4A26-93A1-F89EEEF0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209F-B13B-43A0-8F8E-12414A3A1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FC6C2B-C4FC-4A1E-81B6-736D46085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AFBDA-DE6C-43FC-95B7-D4FD61F9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CB164-0B71-432B-9838-3B80689A8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FD5EE-F1C3-496B-9420-35EBFABB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7D8AE2B-3630-4AB6-858C-F7078677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DCAA3E-1848-4BD2-B288-3B1A319F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0ED01-C68B-4938-A171-74624404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E86DC-5DA3-42F7-8CC2-D3142562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4E6FE3-B7BF-4F95-9579-B43F4385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A93DCA-BF61-4ABB-B54B-E9238CC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2F00-9A0E-498C-8671-A1B95C7C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3ACFC-FAE7-4132-9FEF-0E6A5BD5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DE014C-CFF1-4ED3-95FD-534A11E9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CE3DBB-C35C-49C6-8AAE-8DE9A6C70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F426D6-78A9-4714-8564-2D670154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02940C-19E5-4C40-B965-389F5ACA1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2C90DE-C320-445A-ACF5-BBD5D9677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7A5078-6B23-4516-A26C-9B7F4F30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32DBF-AEC3-4193-AF30-D45F9B9CB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969856-27D9-4817-B272-10785FFCF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4061B8-7C84-4CE2-83DD-CF240CC6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D77B-2C56-481A-9B0E-C11D2F70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35DFC-AEA5-4BB8-8F49-73C4D0D1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FFB9-BAD7-405F-A808-DD07D0D5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FF4CD-834B-42CA-BCD0-BC56FCFC4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3EEBF-33E2-488D-8167-EB2B10EEC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97B70-32F2-472B-8DF7-5C145911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9F973-0B90-4603-BEF2-209321F28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0F328-A652-4882-99DA-9F95BB17F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F20F-FA4A-4C52-B0E5-7382CA860B8B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E24D-47D6-4ED2-8C13-822D5493AABE}" type="slidenum">
              <a:rPr b="1" lang="en-CA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A7D-E0FC-4A7D-BF7F-0E22FF8F7164}" type="slidenum">
              <a:rPr b="1" lang="en-CA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BDED1-9D4D-41A4-9015-116CB306BE98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98E3-AAA5-4EB3-BB23-222F5987DD8C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D5B7-A1F8-4B0E-ADAC-0EF9404B3177}" type="slidenum">
              <a:rPr b="1" lang="en-CA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1BDD-B352-4E72-94EF-130C27559734}" type="slidenum">
              <a:rPr b="1" lang="en-CA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CA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B8A2-0DDC-4915-B4CA-AE8BF7CF24CD}" type="slidenum">
              <a:rPr b="1" lang="en-CA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ct.ca/standards/standards.aspx?lang=en-CA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285920"/>
            <a:ext cx="7772400" cy="25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ebddc3"/>
                </a:solidFill>
                <a:latin typeface="Tw Cen MT"/>
              </a:rPr>
              <a:t>STANDARDS OF PRACTICE AND ETHICAL STANDARDS FOR THE TEACHING PROFESSION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9" name="Content Placeholder 3" descr=""/>
          <p:cNvPicPr/>
          <p:nvPr/>
        </p:nvPicPr>
        <p:blipFill>
          <a:blip r:embed="rId1"/>
          <a:stretch/>
        </p:blipFill>
        <p:spPr>
          <a:xfrm>
            <a:off x="560520" y="1603440"/>
            <a:ext cx="8327880" cy="44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Printable poster of the Standard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 printable poster which you may want to post in your classroom is available a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http://www.oct.ca/standards/standards_of_practice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hat is the purpose of the Standards of Practice? ANSWER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86920" indent="-28692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rrect answer is A only. A lot of the time teachers have the impression that the standards are used as an evaluation tool when a complaint comes to the college about a teacher. This is not the case. When a complaint comes to the Investigation Committee panel, which is made up of 3 or 4 teaching peers, the question discussed is: “is there enough information in this complaint to suggest that the teacher could be guilty of misconduct, incompetence or incapacity?”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Standards are to be aspired to, they were articulated by teachers to describe what teachers do throughout their career. The Ministry of Education used them as a template for the TPAs but they were never intended to be used that way – there is no way a teacher will demonstrated all of the items in the standards in one lesson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Organization of the Colleg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0840"/>
            <a:ext cx="81500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28760" y="542916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Copied with permission from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Science Cartoons Plus -- The Cartoons of S. Harris</a:t>
            </a:r>
            <a:br>
              <a:rPr sz="13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http://www.sciencecartoonsplus.com/gallery/ethics/index.php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5" name="Picture 2" descr=""/>
          <p:cNvPicPr/>
          <p:nvPr/>
        </p:nvPicPr>
        <p:blipFill>
          <a:blip r:embed="rId1"/>
          <a:stretch/>
        </p:blipFill>
        <p:spPr>
          <a:xfrm>
            <a:off x="1214280" y="285840"/>
            <a:ext cx="685800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is the purpose the Standards of Practice and Ethical Standards of the Teaching Profession? (Choose one answer – the correct answer is on the last two slides)</a:t>
            </a:r>
            <a:br>
              <a:rPr sz="4000"/>
            </a:b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773000"/>
            <a:ext cx="8153280" cy="43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. To articulate a collective vision of the teaching profess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B. To articulate standards to which teachers should adhere if they are to be deemed innocent in a investigation into their professional practic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C. To articulate a framework for the TPA (teacher performance appraisal)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D. All of the abov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5720" indent="-315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Do you know the Standards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As a preliminary reflection on what are the Standards of Practice and the Ethical Standards, try the matching exercise in the document attached to this item in your modul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	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Once you have attempted the exercise, check your answers at the following website.  </a:t>
            </a:r>
            <a:r>
              <a:rPr b="0" lang="en-CA" sz="2900" spc="-1" strike="noStrike" u="sng">
                <a:solidFill>
                  <a:srgbClr val="f7b615"/>
                </a:solidFill>
                <a:uFillTx/>
                <a:latin typeface="Tw Cen MT"/>
                <a:hlinkClick r:id="rId1"/>
              </a:rPr>
              <a:t>http://www.oct.ca/standards/standards.aspx?lang=en-CA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The Standards into Practic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    </a:t>
            </a: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Each individual will be assigned one of the 10 dilemmas that follow in slides 8,9 and 10. Your task is to: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1) Reflect on the dilemma using the ethical decision making framework - EDMF (in the next slide) and by referring to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Tw Cen MT"/>
              </a:rPr>
              <a:t>2) In a post, be prepared to share with the group how you dealt with the dilemma, how you addressed the items in the EDMF and how your decision is reflected in the standard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775f55"/>
                </a:solidFill>
                <a:latin typeface="Tw Cen MT"/>
              </a:rPr>
              <a:t>Ethical Decision Making Framework</a:t>
            </a:r>
            <a:br>
              <a:rPr sz="4400"/>
            </a:br>
            <a:r>
              <a:rPr b="0" lang="en-CA" sz="1300" spc="-1" strike="noStrike">
                <a:solidFill>
                  <a:srgbClr val="775f55"/>
                </a:solidFill>
                <a:latin typeface="Tw Cen MT"/>
              </a:rPr>
              <a:t>(available at http://www.oct.ca/standards/resource_kit/pdf/book2_e.pdf)</a:t>
            </a:r>
            <a:endParaRPr b="0" lang="en-US" sz="13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612720" y="1600200"/>
          <a:ext cx="8153280" cy="4057560"/>
        </p:xfrm>
        <a:graphic>
          <a:graphicData uri="http://schemas.openxmlformats.org/drawingml/2006/table">
            <a:tbl>
              <a:tblPr/>
              <a:tblGrid>
                <a:gridCol w="1630440"/>
                <a:gridCol w="1630440"/>
                <a:gridCol w="1631880"/>
                <a:gridCol w="1630440"/>
                <a:gridCol w="1630080"/>
              </a:tblGrid>
              <a:tr h="16412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Judgement/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inciple/ Value Guiding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ationale for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Implication of Decis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7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Reflections on Ethical Dilemmas of Practice and Ac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2418840"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ow would you respond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principle or value is guiding you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are the reasons for your action(s)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 are the possible consequences of your decision or action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2840" bIns="42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7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hat new insight or understanding have you gained from listening to your colleagues?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28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2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5" name="Content Placeholder 4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Dilemmas</a:t>
            </a:r>
            <a:br>
              <a:rPr sz="4000"/>
            </a:br>
            <a:r>
              <a:rPr b="0" lang="en-CA" sz="40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CA" sz="3200" spc="-1" strike="noStrike">
                <a:solidFill>
                  <a:srgbClr val="775f55"/>
                </a:solidFill>
                <a:latin typeface="Tw Cen MT"/>
              </a:rPr>
              <a:t>What would you do?</a:t>
            </a:r>
            <a:endParaRPr b="0" lang="en-US" sz="32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7" name="Content Placeholder 3" descr=""/>
          <p:cNvPicPr/>
          <p:nvPr/>
        </p:nvPicPr>
        <p:blipFill>
          <a:blip r:embed="rId1"/>
          <a:stretch/>
        </p:blipFill>
        <p:spPr>
          <a:xfrm>
            <a:off x="615960" y="1596960"/>
            <a:ext cx="8150040" cy="45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2T19:09:57Z</dcterms:created>
  <dc:creator>jpittlainsbury</dc:creator>
  <dc:description/>
  <dc:language>en-US</dc:language>
  <cp:lastModifiedBy>cdsolorzano</cp:lastModifiedBy>
  <dcterms:modified xsi:type="dcterms:W3CDTF">2012-07-27T04:14:33Z</dcterms:modified>
  <cp:revision>61</cp:revision>
  <dc:subject/>
  <dc:title>Standards of Practice and Ethical Standards for the Teaching Profession</dc:title>
</cp:coreProperties>
</file>