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CAF-E365-4F26-8D3B-B6BF2CE0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F1A-406F-40CA-878B-BEDD4D96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8C5-0AE0-4EAE-BCC7-1E7D1FEA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E35-AF76-47D3-96D0-37E0DD1A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30AB-B752-4C39-807C-6BD80CA8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A176-1620-4365-9E3B-10575ACC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D2BF-543C-451A-A522-3D432CE9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FDD-5846-4076-AC5A-CE564CAE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4066-69AF-41FD-AEFA-EC3668E3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1BE6-29F3-43C9-A31C-BC2DC6B5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3036-A1F9-40C9-99BD-9087585D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075-85C9-464C-B54B-163F698A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34A9-F38A-4DB6-A240-5E5D9515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D2A5-31FD-4477-A863-EB5D5FD2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8B0D-4CB9-4D94-82A6-DC5ECAD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7564-F443-4C09-929A-F79D36D8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2350-FED1-4740-A9A8-CEAF2447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2F3A1-7141-4B38-AB03-A54938C5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C0D7A-3B73-49E3-882C-96175FFC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25AB6-8485-4FE9-BF12-AB165BA2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C597B-D150-4D73-9FE5-E4817231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8FBDC-9A07-4FCF-8ACC-C58586FD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74A-7FB1-4488-B9FE-F9859297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5506A-48E8-4B67-BAE3-31381187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70159-4916-46D2-97CD-17B1C392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9FCC6-1017-4211-9D2B-2F7E23C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CD816-CDD1-490E-88CE-650627BF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36473-2471-4739-9A06-44BB3E44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0C941-EA3D-4B72-9571-37A00B7F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86691-03CD-436A-A200-9A659688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22B2D-7DFF-4762-9496-81F64EFB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D0DB3-EA37-4612-847D-09A0819A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13C9B-FA31-4994-9EAE-FFBA929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77C-B9E0-4FFA-ABA8-D3562AC3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C857B-58B4-41EC-8D1A-29F178AF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B0FEB9-3F78-4106-B8C1-A4BCC49D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837987-85C6-48A3-9A1E-AE3FFBCA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57D5D-9A1D-4215-9935-36EC48F6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EBDBE-D051-4968-B8E4-B098993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45D07-0392-4F91-B9BE-630EF02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C3CC4-8F60-4800-A479-B39B6F99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DB510-7E44-4DE7-88BB-97ADA32F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5BE05-C4FA-42FB-AE89-06B960A8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333AF-F803-411F-A7BF-AF53F382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277-1520-4847-A879-3A4060F8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8DA37-B9E4-4314-A5A4-0425171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5E1AA-8EA6-41C0-AC7E-F4668F5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7F7CE-044F-4C33-ACCC-A6A7986B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D5282-A9CB-4272-BB10-238DA848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85D32-C5C5-48BC-BF08-EBCC886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558B8-34A1-4C6E-997A-82E067A3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B4A3C-B291-4551-B931-E01D4BF4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BE81C-CD1D-4713-A6D7-34CF60DB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4DB45-66EB-46A8-B700-78483B9B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63DB4-B700-41C1-87BB-FF58C1C4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8F9-69A9-4DAE-ACE5-21F53005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09BEE-6639-4742-BC51-1D242AD1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A1824-5A0E-4165-9AEB-79E9FD0C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F1714-4CE8-487C-9B19-C8B41497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66ED8-2CFD-49ED-9158-5497B57F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51544-3B6A-4AE7-9049-84DEA7E4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B2D43-EE1E-4DFA-89BE-1CE23C45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001C2-B878-4B57-BF3F-6B07C1DC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8E324-1D4C-4557-BC88-80B861E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C30E-EC2F-4CE2-A6CE-00D3A65C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8878-F60D-44B7-BEAC-7992194A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977-BC5F-4ED1-BF15-B8D9E915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48229-7EC7-4CCF-BE37-609CE342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7D15F-54FB-4B8A-BD7E-76665795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13C56-5521-49C0-9543-64ED29A3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DA054-B773-4C4C-8ED4-DDCF7CCC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EB60B-B406-49AA-91CD-D7163190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658D7-83E0-46B1-916F-EBD0B012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C5DB6-1D70-43B3-A979-B3D4A88C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27AB7-FF6E-4FF1-8F07-36D755EE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F4E60-F7BD-47C8-98ED-9DC635B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7C6AB-6898-4F02-BF7D-8A9C0FFD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CCD-2FD3-43A9-9D72-F73DBD31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4D046-3143-4B33-93BC-3D2AFF9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DFB8F7-95D7-4EF9-B4C9-50F9790A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B09F7-8B4C-428E-A046-6715737C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66458-A16D-406E-BB64-80454B4E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EFA67-CEEF-4745-B5F2-96BD1881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4C7A8-0785-4AFD-B4EA-8E2CE189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B0627-DE65-42B1-A46A-DF917F51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4DCB8-9B58-4877-9513-CE17144D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1B2C4-CDE6-4511-A9A2-29C33480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BBBB1-6C20-4FF7-BE4D-AA726C1C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255-9265-4858-8465-4F67F77A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B8E19-F1E2-4223-9040-3F61C554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65C44-4C6F-4F7D-A586-FA720C05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B395F-659F-4A23-B728-593C181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EEBE5-9C96-41B6-B831-CB7C4577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88D5E-33D3-43AE-B92B-B30B8491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66403-1197-401F-9364-0B8E446A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A9B7-CB34-460A-80FB-9AC1E723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E6A1-7404-4A74-BE9E-26C9885AD30E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9025-7637-431B-A026-F73D588E6B46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52B3-BB62-4FEF-B44F-652B8FFC4EBF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CF26-9FF1-4F83-BA88-7B612075CFCE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C1BB-6554-4C2D-A87B-867915A83918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7722-F7FC-4EF9-8C58-5E7F5A5F9780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F2F9-407D-44B4-9CB5-8DA0B537ACD2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ED38-6A05-4B1A-9176-D35C802A47E2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ct.ca/standards/standards.aspx?lang=en-C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bddc3"/>
                </a:solidFill>
                <a:latin typeface="Tw Cen MT"/>
              </a:rPr>
              <a:t>STANDARDS OF PRACTICE AND ETHICAL STANDARDS FOR THE TEACHING PROFE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Content Placeholder 3" descr=""/>
          <p:cNvPicPr/>
          <p:nvPr/>
        </p:nvPicPr>
        <p:blipFill>
          <a:blip r:embed="rId1"/>
          <a:stretch/>
        </p:blipFill>
        <p:spPr>
          <a:xfrm>
            <a:off x="560520" y="1603440"/>
            <a:ext cx="83278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Printable poster of the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 printable poster which you may want to post in your classroom is available 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http://www.oct.ca/standards/standards_of_practice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he purpose of the Standards of Practice? ANSWER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rrect answer is A only. A lot of the time teachers have the impression that the standards are used as an evaluation tool when a complaint comes to the college about a teacher. This is not the case. When a complaint comes to the Investigation Committee panel, which is made up of 3 or 4 teaching peers, the question discussed is: “is there enough information in this complaint to suggest that the teacher could be guilty of misconduct, incompetence or incapacity?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s are to be aspired to, they were articulated by teachers to describe what teachers do throughout their career. The Ministry of Education used them as a template for the TPAs but they were never intended to be used that way – there is no way a teacher will demonstrated all of the items in the standards in one lesso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Organization of the Colle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0840"/>
            <a:ext cx="81500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54291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Copied with permission from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Science Cartoons Plus -- The Cartoons of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http://www.sciencecartoonsplus.com/gallery/ethics/index.php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4280" y="285840"/>
            <a:ext cx="6858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is the purpose the Standards of Practice and Ethical Standards of the Teaching Profession? (Choose one answer – the correct answer is on the last two slides)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773000"/>
            <a:ext cx="8153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. To articulate a collective vision of the teaching profe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B. To articulate standards to which teachers should adhere if they are to be deemed innocent in a investigation into their professional prac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C. To articulate a framework for the TPA (teacher performance appraisa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D. All of the abo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Do you know the Standard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s a preliminary reflection on what are the Standards of Practice and the Ethical Standards, try the matching exercise in the document attached to this item in your modu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Once you have attempted the exercise, check your answers at the following website.  </a:t>
            </a:r>
            <a:r>
              <a:rPr b="0" lang="en-CA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oct.ca/standards/standards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The Standards into Prac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ach individual will be assigned one of the 10 dilemmas that follow in slides 8,9 and 10. Your task is to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1) Reflect on the dilemma using the ethical decision making framework - EDMF (in the next slide) and by referring to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2) In a post, be prepared to share with the group how you dealt with the dilemma, how you addressed the items in the EDMF and how your decision is reflected in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Ethical Decision Making Framework</a:t>
            </a:r>
            <a:br>
              <a:rPr sz="44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(available at http://www.oct.ca/standards/resource_kit/pdf/book2_e.pdf)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2720" y="1600200"/>
          <a:ext cx="8153280" cy="4057560"/>
        </p:xfrm>
        <a:graphic>
          <a:graphicData uri="http://schemas.openxmlformats.org/drawingml/2006/table">
            <a:tbl>
              <a:tblPr/>
              <a:tblGrid>
                <a:gridCol w="1630440"/>
                <a:gridCol w="1630440"/>
                <a:gridCol w="1631880"/>
                <a:gridCol w="1630440"/>
                <a:gridCol w="1630080"/>
              </a:tblGrid>
              <a:tr h="16412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Judgement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inciple/ Value Guiding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ationale for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mplication of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flections on Ethical Dilemmas of Practice and 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4188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w would you respond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principle or value is guiding you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are the reasons for your action(s)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 are the possible consequences of your decision o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new insight or understanding have you gained from listening to your colleagu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Content Placeholder 4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9:57Z</dcterms:created>
  <dc:creator>jpittlainsbury</dc:creator>
  <dc:description/>
  <dc:language>en-US</dc:language>
  <cp:lastModifiedBy>cdsolorzano</cp:lastModifiedBy>
  <dcterms:modified xsi:type="dcterms:W3CDTF">2012-07-27T04:14:33Z</dcterms:modified>
  <cp:revision>61</cp:revision>
  <dc:subject/>
  <dc:title>Standards of Practice and Ethical Standards for the Teaching Profession</dc:title>
</cp:coreProperties>
</file>