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997-7C9A-45F5-BFB9-826B35F4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7EDD-1472-495E-94B5-352BFF80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49E6-8E81-45E7-8F3D-51A1F9A0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0CB8-23D8-4880-8D5F-08222A47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B6916-BAA4-41A2-924B-2327F4203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8E93-DF7B-4EB0-B26E-AB2939A6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59038-8801-48B4-87D4-FAF48422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30227-E735-431F-916C-F97902E27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3B2F6-10F5-4FD4-8C41-7BACED29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087DC-0767-44C8-830F-AFA82E57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C08E7-26EB-45C2-BFD5-FBCBEED0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306C-74B0-42F7-BF8D-8208318A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E0B54-D166-4A7D-BDB2-E1BEAB2C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82DC1-EFD8-49E8-A235-FAC02E587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E0C0F-9224-4A76-A5FA-5FBFF399D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B6B1-AE00-4BBE-BBC6-C34DD237E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8849A-C59C-47D5-8E1C-58FAAC0D2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0C89B4-EC90-4D91-9677-500C0AA1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2D13F-0ACF-4C2E-A50E-98925C95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2FF74C-D488-4796-8F4E-8217A66E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78BF0-3EB8-41F1-83C7-B1513FD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99FF5E-F08E-403E-A552-CD486479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FC38-17AD-43D6-9BBB-CABC7301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773985-6B37-441F-A1E9-EC1D8F3E9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259A8-739F-4F65-8254-CDF7B032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61B31F-DD55-4D4F-AEC8-03DCCA29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AD3199-749C-497D-830E-D02BD93B5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132D4-5D14-4FBC-98D0-11AB7E3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86A57D-3386-4177-8B8D-4C8E05A3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038E6-EABF-4FC8-87D3-9944110B7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8EB4BC-9740-49A3-B411-A5D697C2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A46AF2-F0DE-40E3-B997-076AFD30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88287B-4E59-4D80-9D1C-0656E8B5C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4A6-D767-4231-A429-B879A0FE5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E47EBB-91D6-474F-801C-08E23C15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97817-9521-4935-A35C-79C89448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D655FF-D61B-4CC2-8776-B27F904D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811D91-4C9E-4A6A-83CB-F4734C2C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A5212F-EF3D-49CF-82A8-023D6C3B9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22497-C6CF-4B90-89A1-F158ACE4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2F2556-7565-499D-8ED3-0814BDFC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70BEDE-33B9-4E02-87F7-113EB69F7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E56C08-899B-48A6-88ED-846CED62E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757D4-1E9A-445B-B7F0-F4C6D15DE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02A6-C479-4585-8290-3F1AC9BE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9ABB71-1543-4C11-9E19-DA01B73BE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2B9311-E125-4081-BF3F-EC7F23538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2CC266-15E1-4A5E-A839-45F7B2D11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B1DFBA-1A61-404A-AD9E-BF754B5C0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5D9664-F4E0-452A-AABF-824CC854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4053C-A506-45CA-B772-2D4D5EAF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93EC10-232B-4D7A-9990-D60B6826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52F922-3CA6-40EB-812B-2BFEC769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6C22D6-9C3D-48C1-85EC-B6B428C62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6FA86-7D6A-4A35-A124-C5F245C1D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3775-D73C-463B-B953-3E05D2F34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B60A6-78AC-4FED-95AA-3C08A0C5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D78AC-27C3-4C1B-ABE5-6B05868E5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B8C94-20EF-480A-8E1C-EBA99106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7DF49-E4A2-4C93-8FDD-B8D45A23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900CF-279D-45D8-8318-E92863A69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C5395-DED1-4938-BFA1-F888015E2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2F142-E99C-4022-BEF7-F62742369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10FAE7-4675-4619-9B49-47498FB2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596A84-B17E-452E-9D6F-F08BEF10A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8A01F-5E24-4DE9-8B9D-220360C41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22D1-BF5D-4AFD-A4D0-BB809968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C0037-98FC-4D55-A017-02AF1EAC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66588A-5BD4-4FBC-856D-2CEE95B7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F78BF-E071-4312-8603-69D73C40E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6850E7-D398-4CF8-BDE7-32D8A5868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3B84F2-5909-482C-9D81-85565912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F41C66-9298-476C-BB6A-8878828B2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EA28F-7DDA-43A7-A670-033BBD46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2CD357-4533-42A3-9701-186FA916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2629B3-84BE-4FEF-B56B-FBBFAF0E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C7A3F8-DDB3-4A66-96B4-3AD37EA2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DED-2FF2-46D7-B2BB-DA24154D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C430E6-4062-47BF-A1F4-AA957E482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8B2251-A70C-49B9-918A-A6F82C0D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C3E4EB-42C9-46CD-B254-008D2A464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476AE7-B349-44A4-A5BD-234219968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2D7865-9C80-4D01-AE91-97F62221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BEF9-9C88-48CE-949D-3B791905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7D1D36-B4EA-4379-A0CD-513363C1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1C2BEE-8FAB-49B8-B552-271B499FB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996F82-E350-4CF2-ACEB-7E9A1CAA0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ECB2-9AE3-40A3-8A57-7643ACC5B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E4D-2FC1-4443-8897-F9BB9AD2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21FE8-6A62-4472-A7CD-DC19EAA4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F2BB5-20AB-4605-8358-8307912CF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5FE7C-0221-45AD-8225-676E53AE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9E393-E1BC-44F0-B2A8-1D10AA5B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FC024-182E-4E9D-884B-DC2B166E4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71619-A2F5-4EF9-8B01-5D360C80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EDDD27-0552-4D2E-985F-BCF59B68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318-76F5-43DD-994C-40EAD399FB99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BA02-6848-41C0-ACE5-875E2EE96A97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7A45-77EE-47B7-967E-7F04BC4CA4CF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6C61-3643-43AC-8E40-5EC0D60B68C6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148A7-DCFA-4567-A086-0A2A12F13E5E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182F-0AF5-4C9C-96A7-3E577D358A45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8F1-27B8-4F3C-8E46-AACAA6C59F1E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C3346-4DA4-45BB-A0E2-FA6CDFC90545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ct.ca/standards/standards.aspx?lang=en-C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dc3"/>
                </a:solidFill>
                <a:latin typeface="Tw Cen MT"/>
              </a:rPr>
              <a:t>STANDARDS OF PRACTICE AND ETHICAL STANDARDS FOR THE TEACHING PROFE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83278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rintable poster of th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 printable poster which you may want to post in your classroom is available 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ttp://www.oct.ca/standards/standards_of_practice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purpose of the Standards of Practice? ANSWER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rrect answer is A only. A lot of the time teachers have the impression that the standards are used as an evaluation tool when a complaint comes to the college about a teacher. This is not the case. When a complaint comes to the Investigation Committee panel, which is made up of 3 or 4 teaching peers, the question discussed is: “is there enough information in this complaint to suggest that the teacher could be guilty of misconduct, incompetence or incapacity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s are to be aspired to, they were articulated by teachers to describe what teachers do throughout their career. The Ministry of Education used them as a template for the TPAs but they were never intended to be used that way – there is no way a teacher will demonstrated all of the items in the standards in one lesso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Organization of the Colle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0840"/>
            <a:ext cx="8150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Copied with permission from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Science Cartoons Plus -- The Cartoons of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http://www.sciencecartoonsplus.com/gallery/ethics/index.php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is the purpose the Standards of Practice and Ethical Standards of the Teaching Profession? (Choose one answer – the correct answer is on the last two slides)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. To articulate a collective vision of the teaching prof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B. To articulate standards to which teachers should adhere if they are to be deemed innocent in a investigation into their professional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. To articulate a framework for the TPA (teacher performance apprais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. All of the ab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Do you know the Standard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s a preliminary reflection on what are the Standards of Practice and the Ethical Standards, try the matching exercise in the document attached to this item in your modu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nce you have attempted the exercise, check your answers at the following website.  </a:t>
            </a:r>
            <a:r>
              <a:rPr b="0" lang="en-CA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oct.ca/standards/standards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The Standards into Prac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ach individual will be assigned one of the 10 dilemmas that follow in slides 8,9 and 10. Your task is to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1) Reflect on the dilemma using the ethical decision making framework - EDMF (in the next slide) and by referring to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2) In a post, be prepared to share with the group how you dealt with the dilemma, how you addressed the items in the EDMF and how your decision is reflected in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Ethical Decision Making Framework</a:t>
            </a:r>
            <a:br>
              <a:rPr sz="44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(available at http://www.oct.ca/standards/resource_kit/pdf/book2_e.pdf)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2720" y="1600200"/>
          <a:ext cx="8153280" cy="40575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16412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Judgement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nciple/ Value Guiding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ationale for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mplication of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flections on Ethical Dilemmas of Practice and 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4188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w would you respon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principle or value is guiding you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are the reasons for your action(s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 are the possible consequences of your decision o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new insight or understanding have you gained from listening to your colleagu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9:57Z</dcterms:created>
  <dc:creator>jpittlainsbury</dc:creator>
  <dc:description/>
  <dc:language>en-US</dc:language>
  <cp:lastModifiedBy>cdsolorzano</cp:lastModifiedBy>
  <dcterms:modified xsi:type="dcterms:W3CDTF">2012-07-27T04:14:33Z</dcterms:modified>
  <cp:revision>61</cp:revision>
  <dc:subject/>
  <dc:title>Standards of Practice and Ethical Standards for the Teaching Profession</dc:title>
</cp:coreProperties>
</file>