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CF5-4A8C-46C8-9DF8-A2D35243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526-2426-46D4-B2C2-B3DD4BC7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199-0CD2-4C5C-BF39-4FD56EF6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9B0-2C17-479D-A398-0A6A9F39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48D0-8423-453A-A8B1-13BF2371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42E2-3800-4DE7-99C3-4AE51FEF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1294-3537-45D7-89D4-69E1869B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75E4-52A5-43B0-8990-74ECEFC9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3CA1-0767-4DC2-B839-9081D989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D317-C5BE-4F6A-B433-6E01E29E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A439-8936-4295-BCBE-BD6D80B1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5EF-8FD5-4170-9BA8-6890D9A3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F913-A5E8-4535-9292-E892EBCE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6098-7FFA-4049-8717-FEFA6FA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56C9-6691-4DC9-BDCA-E580822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6D2F-1FBC-4959-994D-3073E2E7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EDEC-5E7C-4E9B-92A0-C6C7D39A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14331-71DC-4771-8976-7F7DC881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72FC5-0790-4BB8-805B-53FADDFA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27623-5603-4CB7-86DD-AD873583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5FC29-C5D4-4D85-B7CF-C7FB3D4B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E64FC-E167-471B-A0C1-C54F07FD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445-5243-4136-99CF-9FD44B9B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D92CB-8E04-42F1-9FC5-2407D4F2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A2D0D-1E9B-4156-98F9-31596F61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EAB43-3B91-4EEF-8158-19AA9F1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F46B9-3FB8-4A1B-9031-8483F3DF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177C2-01FF-42E2-BE10-3ECAA9DF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105EE-903F-4565-AB7A-6983FE99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599BA-304F-48BF-9220-7A8AF49F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45E7D-AC26-4E27-9323-C1E2FD8D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12AA3-E06E-412C-B7E2-E1264DFA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2BE1E-0A7F-467E-B869-321E0D45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BFC-303B-41CA-AD15-0DE4F596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13880-DDE1-4A1D-B692-43BAF86F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08D1D-0FB3-4A09-BAA0-65F0E0AC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9B7B6-15C7-4C7D-BE76-5EA25370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04594-5028-42BF-AA56-E5FC18A1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821CB-9779-45E1-8927-DD1CB96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B69C27-5CDA-4E73-AB03-1D1EF7B9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A74C6-0F72-452C-A639-8E00F8D2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D5DFB0-EB39-46AF-9926-FAAC1CF8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2240D-A546-4FF0-A2C7-EA180958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D3993-EF80-4D9F-AE26-2E4CACAC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A16-5067-4486-9EB5-A2C2ADA6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42E43-3381-439F-9496-B0EE1D79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3CAF1-A07B-4381-9439-028C8FE1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0BCA6-038A-49AA-BF33-D6A443F7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04F0D-3C5E-4010-B089-894A2122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AD44E-2EA7-4048-A997-DA2A8C3C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B8B76-5326-457A-9ABC-F8AB1EB3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C6A2B-6AFD-417B-A926-40EE7F8C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577B5-87CB-469A-9E8B-EDBA0008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8C043-85B6-40A4-B03D-158D0B83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CF8B2-CAB5-4B21-BABA-82137711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EFA-7EE0-4D3D-A419-75F4854E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7DF47-549C-4027-A9C5-C4DBCE9F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E2088-2A1F-4171-8460-0BB1B358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7665B-E032-4B43-B51C-24C51558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8A6D7-EF02-42B0-9404-F02AAFD0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46252-07C3-4272-A922-8E3184C5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267EF-E326-4D30-A477-24014F5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D4615-9FF8-49E5-83F2-CA985A98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370AB-6634-41C4-B17E-F7E7B69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232A6-E7AE-44C4-8BB9-78B1396A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502F-9C34-47E6-A093-DBB4A64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57C-3DFA-4D1E-9C99-F072EA3C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C4B74-159B-4DB2-B7EA-C374013F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477E3-DC97-4DDB-B313-69A42DD0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BC4FC-4F21-4945-95D3-5F83B0FD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6E400A-9BF9-49C6-A5F7-31C5F394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39102-7D1B-4B45-B399-D393A870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10F11-347D-41B1-BF9F-17619015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79F60-5799-42DE-A3D6-EAB34132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58FFB-94DF-49EC-A552-BAA4B89E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0A5B7-2547-4AB3-8EF6-0841C20C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28A8B-0248-4E65-ABE9-6E5D1B8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FCF-C5F0-4633-9279-F626B824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F276B-C828-473C-972A-2A41DB35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3C21F-B835-411B-8D6C-B7C19DC5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C14E7-396C-468E-AE81-4685254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FEF3F1-7D24-4333-B1AB-735AA721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A46D0-10D9-4235-85C2-76585CC2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93D82-DA41-42FF-A572-5FEF6CF3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B89C5-F252-44AD-B59B-23280D7B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E7DE9-0DFD-4A74-80E5-5ABE50A1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36F85-941C-49B3-A243-71FEE389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A0269-85EA-492B-91A7-92CC71AE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665-5A6F-422C-AA24-9B16C432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452B7-6478-4AA4-BA5B-005C64D0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33738-95DB-4A2F-9030-B59B780C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BAE93-CDF1-4E7C-9A94-498290E0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F3B90-E975-4891-9AA2-8458798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B34BA-1849-44BA-83EF-23A31845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C3162-BAFA-491E-A7D9-C048E04A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6FB15-8F02-4B68-AB27-5B409E38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10A-D530-48CB-8571-C9AD354B3F26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AF99-A020-4D57-A1C2-216060913743}" type="slidenum">
              <a:rPr b="1" lang="en-C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A632-8BEF-434F-8625-2BB28D733331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E5E5-1C06-4390-9836-A5EAFD62B0E4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B951-20AB-4616-BF06-7A0C6B3528C4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C911-0FA2-4AAA-AF8B-299357DFA5E5}" type="slidenum">
              <a:rPr b="1" lang="en-C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F4A8-1EDB-4B20-A8BD-79C2A118D26B}" type="slidenum">
              <a:rPr b="1" lang="en-C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DC15-7EB7-4941-B3AB-20AD9E8583AE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ct.ca/standards/standards.aspx?lang=en-C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bddc3"/>
                </a:solidFill>
                <a:latin typeface="Tw Cen MT"/>
              </a:rPr>
              <a:t>STANDARDS OF PRACTICE AND ETHICAL STANDARDS FOR THE TEACHING PROFES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Content Placeholder 3" descr=""/>
          <p:cNvPicPr/>
          <p:nvPr/>
        </p:nvPicPr>
        <p:blipFill>
          <a:blip r:embed="rId1"/>
          <a:stretch/>
        </p:blipFill>
        <p:spPr>
          <a:xfrm>
            <a:off x="560520" y="1603440"/>
            <a:ext cx="83278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Printable poster of the Stand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 printable poster which you may want to post in your classroom is available a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http://www.oct.ca/standards/standards_of_practice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the purpose of the Standards of Practice? ANSWER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rrect answer is A only. A lot of the time teachers have the impression that the standards are used as an evaluation tool when a complaint comes to the college about a teacher. This is not the case. When a complaint comes to the Investigation Committee panel, which is made up of 3 or 4 teaching peers, the question discussed is: “is there enough information in this complaint to suggest that the teacher could be guilty of misconduct, incompetence or incapacity?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tandards are to be aspired to, they were articulated by teachers to describe what teachers do throughout their career. The Ministry of Education used them as a template for the TPAs but they were never intended to be used that way – there is no way a teacher will demonstrated all of the items in the standards in one lesso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Organization of the Colle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3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0840"/>
            <a:ext cx="81500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542916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Copied with permission from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Science Cartoons Plus -- The Cartoons of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http://www.sciencecartoonsplus.com/gallery/ethics/index.php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14280" y="285840"/>
            <a:ext cx="68580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is the purpose the Standards of Practice and Ethical Standards of the Teaching Profession? (Choose one answer – the correct answer is on the last two slides)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773000"/>
            <a:ext cx="8153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. To articulate a collective vision of the teaching profes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B. To articulate standards to which teachers should adhere if they are to be deemed innocent in a investigation into their professional pract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C. To articulate a framework for the TPA (teacher performance appraisa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D. All of the abo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Do you know the Standard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s a preliminary reflection on what are the Standards of Practice and the Ethical Standards, try the matching exercise in the document attached to this item in your modu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Once you have attempted the exercise, check your answers at the following website.  </a:t>
            </a:r>
            <a:r>
              <a:rPr b="0" lang="en-CA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oct.ca/standards/standards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The Standards into Pract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Each individual will be assigned one of the 10 dilemmas that follow in slides 8,9 and 10. Your task is to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1) Reflect on the dilemma using the ethical decision making framework - EDMF (in the next slide) and by referring to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2) In a post, be prepared to share with the group how you dealt with the dilemma, how you addressed the items in the EDMF and how your decision is reflected in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Ethical Decision Making Framework</a:t>
            </a:r>
            <a:br>
              <a:rPr sz="44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(available at http://www.oct.ca/standards/resource_kit/pdf/book2_e.pdf)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2720" y="1600200"/>
          <a:ext cx="8153280" cy="4057560"/>
        </p:xfrm>
        <a:graphic>
          <a:graphicData uri="http://schemas.openxmlformats.org/drawingml/2006/table">
            <a:tbl>
              <a:tblPr/>
              <a:tblGrid>
                <a:gridCol w="1630440"/>
                <a:gridCol w="1630440"/>
                <a:gridCol w="1631880"/>
                <a:gridCol w="1630440"/>
                <a:gridCol w="1630080"/>
              </a:tblGrid>
              <a:tr h="16412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Judgement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inciple/ Value Guiding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ationale for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mplication of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flections on Ethical Dilemmas of Practice and 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4188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ow would you respond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principle or value is guiding you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are the reasons for your action(s)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 are the possible consequences of your decision o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new insight or understanding have you gained from listening to your colleague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Content Placeholder 4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9:09:57Z</dcterms:created>
  <dc:creator>jpittlainsbury</dc:creator>
  <dc:description/>
  <dc:language>en-US</dc:language>
  <cp:lastModifiedBy>cdsolorzano</cp:lastModifiedBy>
  <dcterms:modified xsi:type="dcterms:W3CDTF">2012-07-27T04:14:33Z</dcterms:modified>
  <cp:revision>61</cp:revision>
  <dc:subject/>
  <dc:title>Standards of Practice and Ethical Standards for the Teaching Profession</dc:title>
</cp:coreProperties>
</file>